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3599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858600" y="744120"/>
            <a:ext cx="50799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1416"/>
                </a:solidFill>
                <a:latin typeface="Calibri Light"/>
              </a:rPr>
              <a:t>Click to move the slide</a:t>
            </a: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1B7-E77F-40A1-B6F6-1978DFBAB2C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507996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DE5-2714-4C6C-8DAC-BD0FC72528C1}" type="slidenum">
              <a:rPr b="0" lang="en-NZ" sz="1200" spc="-1" strike="noStrike">
                <a:solidFill>
                  <a:srgbClr val="202325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202325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50799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6117-2DF9-4A21-B107-80E9ACEF893C}" type="slidenum">
              <a:rPr b="0" lang="en-NZ" sz="1200" spc="-1" strike="noStrike">
                <a:solidFill>
                  <a:srgbClr val="202325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202325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507996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1.  Judicature Act, Schedule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A8C4-C270-414A-BD55-FFEF70BBA695}" type="slidenum">
              <a:rPr b="0" lang="en-NZ" sz="1200" spc="-1" strike="noStrike">
                <a:solidFill>
                  <a:srgbClr val="202325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202325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8960" y="744480"/>
            <a:ext cx="507996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3.  Judicature Act 1908, Schedu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E5BA-E6FB-45B9-8653-EE40E468EBF2}" type="slidenum">
              <a:rPr b="0" lang="en-NZ" sz="1200" spc="-1" strike="noStrike">
                <a:solidFill>
                  <a:srgbClr val="20232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02325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EFA-501C-41A1-A479-49DE6EC1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57C-3E1F-44AB-AB7B-0F968451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B13-2140-4DA6-83A6-4716063B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704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572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7A3-5D66-4B89-8817-37EE3BD3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BA3C-5FC2-43D8-8D7E-627C71AA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1C3-1CAE-4E29-AE80-65AF21F9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5667-5FAA-4AB4-B63F-E3E0F6E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F65-0341-402F-9069-DF122DBC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1C6-A159-4C98-A51A-6D3013B9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533160"/>
            <a:ext cx="8424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C451-3C96-4BA5-978A-65C2826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DE1-D920-4C4E-97B4-D359213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1B7-B254-49E7-B655-CE6C8213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F9C3-774F-4F23-B032-E8E36B4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EA6D-18B1-4264-891C-AF0FD27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07F2-2B90-4F7B-873E-51415BB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6052-9BC4-45A8-8179-6ABF6548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704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572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88A9-802E-4371-B6D3-E1A9D2F2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8E81-6F81-4157-A844-62E8D38C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5F2D-0194-4D2F-8ADF-BBE92FE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B186-7F78-4F49-A121-0A65AE4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DDC9-693C-4485-B4C9-76096AA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5391-6C80-4E22-BC15-7808F61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658-7EDD-420E-8A67-2EC08040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533160"/>
            <a:ext cx="8424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4AC3-11ED-4116-97AD-C571688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FF3C-1DB7-428C-9E6A-78F7A23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A88D-EC03-453D-8C04-BBA5F5B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E64F-207C-40D5-AFDC-297F587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A025-D7F8-430E-BE08-A0770A9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32E6-C24A-4E54-90C4-740B52BA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6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704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6572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DE0F-AB86-48E3-A930-CD81F453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AE79-458B-4B1D-B3D0-249D529E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31B7-4C79-4C74-AA7A-BE702681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094B-2FF5-418D-8CDC-D16E23BC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35F-EAF0-49EF-A677-99D72FD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8B8A-659E-496D-AE4A-F787E655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4385-D854-41F4-AA5A-5403A11A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8360" y="533160"/>
            <a:ext cx="8424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FDA3-F38D-4FD8-94F1-C196BC72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8795-CA66-4861-B8F5-57BE602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FB6F-9005-4A5C-BB61-AA28F23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20AD1-0C6E-45BC-8C64-0F285EC1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9755-81EF-4D32-90FA-936A6BC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C11C-58AB-4ECD-9108-0AAF3A87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36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704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6572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1694-A172-4A11-A92D-EC891EA5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2BC7D-14C2-4EFA-89C3-A57EC20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0D2-DE65-4C21-90C3-440B3C9A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6D31-9CDD-4180-A83C-A0046E45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2BF8-5192-44EC-97C1-3CCA537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4BB5-4378-4324-8CD5-8239B330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138C-2EEC-4A2D-BFC0-420B65D1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68360" y="533160"/>
            <a:ext cx="8424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5D770-4937-4598-B4A7-6279F588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CF68-7749-48EC-89E9-FE086DD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E213-8811-4D54-9DCA-C657D56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4DEE-EA59-40D2-8F33-841B1421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05E6-D486-41C8-9426-4E93C430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9A39-5179-4287-B176-1A49161B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533160"/>
            <a:ext cx="8424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B0F-A368-4653-82EC-9C5A86F1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836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704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65720" y="4147200"/>
            <a:ext cx="271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E4C1-B89B-400D-B684-BB67BE5D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FC6-1572-4317-B1D9-1E15F4A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5480" y="414720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55D-468B-4C5E-849A-8776D67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47200"/>
            <a:ext cx="8424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BEB-7851-4EA8-85D4-34F83D3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361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1416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361440" cy="365040"/>
          </a:xfrm>
          <a:prstGeom prst="rect">
            <a:avLst/>
          </a:prstGeom>
          <a:solidFill>
            <a:srgbClr val="a3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68000" y="18720"/>
            <a:ext cx="29638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9640" y="18720"/>
            <a:ext cx="42130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800840" y="18720"/>
            <a:ext cx="1092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34A-2972-4755-89CB-C4B193A844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361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361440" cy="365040"/>
          </a:xfrm>
          <a:prstGeom prst="rect">
            <a:avLst/>
          </a:prstGeom>
          <a:solidFill>
            <a:srgbClr val="a3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701640" y="3398760"/>
            <a:ext cx="8035920" cy="1800"/>
          </a:xfrm>
          <a:prstGeom prst="line">
            <a:avLst/>
          </a:prstGeom>
          <a:ln w="19080">
            <a:solidFill>
              <a:srgbClr val="8e1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1416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68000" y="18720"/>
            <a:ext cx="29638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9640" y="18720"/>
            <a:ext cx="42130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800840" y="18720"/>
            <a:ext cx="1092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2D50-C433-4BF0-8F68-9213D3D177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361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361440" cy="365040"/>
          </a:xfrm>
          <a:prstGeom prst="rect">
            <a:avLst/>
          </a:prstGeom>
          <a:solidFill>
            <a:srgbClr val="a3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49160" y="4599000"/>
            <a:ext cx="8034480" cy="1440"/>
          </a:xfrm>
          <a:prstGeom prst="line">
            <a:avLst/>
          </a:prstGeom>
          <a:ln w="19080">
            <a:solidFill>
              <a:srgbClr val="f2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4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f2f3f4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2f3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2f3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4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2f3f4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68000" y="18720"/>
            <a:ext cx="29638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09640" y="18720"/>
            <a:ext cx="42130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800840" y="18720"/>
            <a:ext cx="1092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145-5DCF-48C2-84DF-5D6250D863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361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361440" cy="365040"/>
          </a:xfrm>
          <a:prstGeom prst="rect">
            <a:avLst/>
          </a:prstGeom>
          <a:solidFill>
            <a:srgbClr val="a3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680000" y="1692360"/>
            <a:ext cx="1440" cy="4708440"/>
          </a:xfrm>
          <a:prstGeom prst="line">
            <a:avLst/>
          </a:prstGeom>
          <a:ln w="19080">
            <a:solidFill>
              <a:srgbClr val="8e1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1416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68000" y="18720"/>
            <a:ext cx="29638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509640" y="18720"/>
            <a:ext cx="42130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800840" y="18720"/>
            <a:ext cx="1092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409-0046-4607-8092-2205B288E2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361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361440" cy="365040"/>
          </a:xfrm>
          <a:prstGeom prst="rect">
            <a:avLst/>
          </a:prstGeom>
          <a:solidFill>
            <a:srgbClr val="a3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841120" y="792000"/>
            <a:ext cx="1800" cy="5578560"/>
          </a:xfrm>
          <a:prstGeom prst="line">
            <a:avLst/>
          </a:prstGeom>
          <a:ln w="19080">
            <a:solidFill>
              <a:srgbClr val="8e1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1416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a300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2023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2325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68000" y="18720"/>
            <a:ext cx="29638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509640" y="18720"/>
            <a:ext cx="42130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2325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800840" y="18720"/>
            <a:ext cx="1092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A68-4C3E-4E02-8DD2-E466695337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42480" y="3645000"/>
            <a:ext cx="7410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535b60"/>
                </a:solidFill>
                <a:latin typeface="Calibri"/>
              </a:rPr>
              <a:t>Elspeth Horner – Partner 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02325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02325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936720" y="1413000"/>
            <a:ext cx="74102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2325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202325"/>
                </a:solidFill>
                <a:latin typeface="Calibri Light"/>
                <a:ea typeface="Arial"/>
              </a:rPr>
              <a:t>PROVING THE CASE:</a:t>
            </a:r>
            <a:endParaRPr b="0" lang="en-US" sz="4000" spc="-1" strike="noStrike">
              <a:solidFill>
                <a:srgbClr val="202325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202325"/>
                </a:solidFill>
                <a:latin typeface="Calibri Light"/>
                <a:ea typeface="Arial"/>
              </a:rPr>
              <a:t>Evidence for Court</a:t>
            </a:r>
            <a:br>
              <a:rPr sz="4000"/>
            </a:br>
            <a:endParaRPr b="0" lang="en-US" sz="4000" spc="-1" strike="noStrike">
              <a:solidFill>
                <a:srgbClr val="202325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02325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02325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701640" y="5950080"/>
            <a:ext cx="8155080" cy="539640"/>
            <a:chOff x="701640" y="5950080"/>
            <a:chExt cx="8155080" cy="53964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5904360" y="5950080"/>
              <a:ext cx="295236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" descr="Screen Clipping"/>
            <p:cNvPicPr/>
            <p:nvPr/>
          </p:nvPicPr>
          <p:blipFill>
            <a:blip r:embed="rId2"/>
            <a:srcRect l="1503" t="0" r="0" b="0"/>
            <a:stretch/>
          </p:blipFill>
          <p:spPr>
            <a:xfrm flipH="1" rot="10800000">
              <a:off x="701640" y="6287040"/>
              <a:ext cx="7579080" cy="45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Preparing for being a witness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Amat Victoria Curam:  Victory loves prepara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Guidance by counsel, if not ask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opy of Claim/Defenc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ALL other witnesses briefs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Bundle of Document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ross examination practice/prepara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If expert witness:  Intel on other expert witnesses and their evidenc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Preparing for being a witness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ross examination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Understand purpos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Weaknesse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How to respond to strategies/technique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KEEP CALM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Basics:  when/where/what order/contact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Familiarise yourself with Court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What to expect as a witness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Sworn in as witness – witness box (Court)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Usually required to read Brief of Evidence, then: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499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Clarification questions from counsel leading your evidence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499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Cross examination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499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Re-examination questions from counsel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499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Questions from the Judge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499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Adjournment while giving evidence:  can’t speak with party/counsel for whom you are appearing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Expect focus on minutae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Conclusion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Preparation:  Precision:  Practice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What learnings can be identified/adopted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What was the outcome:  read the judgment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02325"/>
                </a:solidFill>
                <a:latin typeface="Calibri"/>
              </a:rPr>
              <a:t>Get it right:  Appropriate support from counsel</a:t>
            </a: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47640" y="2565360"/>
            <a:ext cx="81788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Outline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lements of a disput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lean file keeping/documenta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Discovery obligation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oviding evidence (fact/expert opinion)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eparing for being a witnes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What to expect when called as a witnes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Elements of a Dispute </a:t>
            </a:r>
            <a:br>
              <a:rPr sz="3600"/>
            </a:b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000" y="1523880"/>
            <a:ext cx="867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Backwards looking: 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What has gone wrong?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Why?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How can it be proved?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Balance of probabilities:  Which party’s version of events is inherently more likely?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Resolution options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Settlement (negotiation)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ISO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ADR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ourt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615960" indent="-343080">
              <a:lnSpc>
                <a:spcPct val="90000"/>
              </a:lnSpc>
              <a:spcBef>
                <a:spcPts val="601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02325"/>
              </a:solidFill>
              <a:latin typeface="Calibri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701640" y="5950080"/>
            <a:ext cx="8155080" cy="539640"/>
            <a:chOff x="701640" y="5950080"/>
            <a:chExt cx="8155080" cy="53964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tretch/>
          </p:blipFill>
          <p:spPr>
            <a:xfrm>
              <a:off x="5904360" y="5950080"/>
              <a:ext cx="295236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6" descr="Screen Clipping"/>
            <p:cNvPicPr/>
            <p:nvPr/>
          </p:nvPicPr>
          <p:blipFill>
            <a:blip r:embed="rId2"/>
            <a:srcRect l="1503" t="0" r="0" b="0"/>
            <a:stretch/>
          </p:blipFill>
          <p:spPr>
            <a:xfrm flipH="1" rot="10800000">
              <a:off x="701640" y="6287040"/>
              <a:ext cx="7579080" cy="4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Clean File Keeping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esume all documents will be seen by third party eye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Develop inhouse protocols for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ommunication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storage/filing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mbarrassment factor/reputa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When issue becomes contentious:  privilege claims/settlement offer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Discovery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Litigation principle:  No surprises at hearing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Discovery obligations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Tailored/full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ivileged/ope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Guidance re search for record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Affidavit re documents disclosed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Inspec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Providing Evidence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Fact witness:  What has happened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xpert witness: What is your opinion about what has happened (or hypothetical scenario):</a:t>
            </a:r>
            <a:br>
              <a:rPr sz="2200"/>
            </a:b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g:  Is a misstatement in a life insurance proposal material (s4 Insurance Law Reform Act 1977)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xpert witnesses are subject to a Code of Conduct contained in the High Court Rules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701640" y="5950080"/>
            <a:ext cx="8155080" cy="539640"/>
            <a:chOff x="701640" y="5950080"/>
            <a:chExt cx="8155080" cy="539640"/>
          </a:xfrm>
        </p:grpSpPr>
        <p:pic>
          <p:nvPicPr>
            <p:cNvPr id="245" name="Picture 4" descr=""/>
            <p:cNvPicPr/>
            <p:nvPr/>
          </p:nvPicPr>
          <p:blipFill>
            <a:blip r:embed="rId1"/>
            <a:stretch/>
          </p:blipFill>
          <p:spPr>
            <a:xfrm>
              <a:off x="5904360" y="5950080"/>
              <a:ext cx="295236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Screen Clipping"/>
            <p:cNvPicPr/>
            <p:nvPr/>
          </p:nvPicPr>
          <p:blipFill>
            <a:blip r:embed="rId2"/>
            <a:srcRect l="1503" t="0" r="0" b="0"/>
            <a:stretch/>
          </p:blipFill>
          <p:spPr>
            <a:xfrm flipH="1" rot="10800000">
              <a:off x="701640" y="6287040"/>
              <a:ext cx="7579080" cy="4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Providing Evidence – Expert Evidence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The High Court Rules Code of Conduct for Expert Witnesses include the following requirements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xpert witness has an overriding duty to assist the court impartially on relevant matters within the expert’s area of expertise</a:t>
            </a:r>
            <a:br>
              <a:rPr sz="2200"/>
            </a:b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xpert witness is not an advocate for the party who engages the witness</a:t>
            </a:r>
            <a:br>
              <a:rPr sz="2200"/>
            </a:b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Qualify basis for opinion – any insufficient informa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45720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Essentially: exercise independent and professional judgment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Tips for underwriter’s evidence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Obtain clear brief:  What is the question?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epare own opinion/evidence (review High Court Code)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heck provided everything the original underwriter had available to them – do not speculat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Is the cover part of a bundled packag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What did the insured know?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ovide opinion on each separate failure to disclose/misstatement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Review and use the reinsurance guidelines available at time of original consideration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1" marL="701640" indent="-3427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Precision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701640" y="5950080"/>
            <a:ext cx="8155080" cy="539640"/>
            <a:chOff x="701640" y="5950080"/>
            <a:chExt cx="8155080" cy="539640"/>
          </a:xfrm>
        </p:grpSpPr>
        <p:pic>
          <p:nvPicPr>
            <p:cNvPr id="252" name="Picture 4" descr=""/>
            <p:cNvPicPr/>
            <p:nvPr/>
          </p:nvPicPr>
          <p:blipFill>
            <a:blip r:embed="rId1"/>
            <a:stretch/>
          </p:blipFill>
          <p:spPr>
            <a:xfrm>
              <a:off x="5904360" y="5950080"/>
              <a:ext cx="295236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5" descr="Screen Clipping"/>
            <p:cNvPicPr/>
            <p:nvPr/>
          </p:nvPicPr>
          <p:blipFill>
            <a:blip r:embed="rId2"/>
            <a:srcRect l="1503" t="0" r="0" b="0"/>
            <a:stretch/>
          </p:blipFill>
          <p:spPr>
            <a:xfrm flipH="1" rot="10800000">
              <a:off x="701640" y="6287040"/>
              <a:ext cx="7579080" cy="4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e1416"/>
                </a:solidFill>
                <a:latin typeface="Calibri Light"/>
              </a:rPr>
              <a:t>Tips for underwriter’s evidence</a:t>
            </a:r>
            <a:endParaRPr b="0" lang="en-US" sz="3600" spc="-1" strike="noStrike">
              <a:solidFill>
                <a:srgbClr val="8e1416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200" spc="-1" strike="noStrike">
                <a:solidFill>
                  <a:srgbClr val="202325"/>
                </a:solidFill>
                <a:latin typeface="Calibri"/>
              </a:rPr>
              <a:t>Pan Atlantic Insurance Company Ltd  v Pine Top Insurance Company - </a:t>
            </a: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  disclosure re claims history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2" marL="717480" indent="-358560"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Original underwriter should review and give evidence: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lvl="3" marL="992160" indent="-358920">
              <a:spcBef>
                <a:spcPts val="499"/>
              </a:spcBef>
              <a:buClr>
                <a:srgbClr val="a300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what induced them to write the particular risk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3" marL="992160" indent="-358920">
              <a:spcBef>
                <a:spcPts val="499"/>
              </a:spcBef>
              <a:buClr>
                <a:srgbClr val="a300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had they known the true facts at the time would they have declined to offer terms; or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3" marL="992160" indent="-358920">
              <a:spcBef>
                <a:spcPts val="499"/>
              </a:spcBef>
              <a:buClr>
                <a:srgbClr val="a300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02325"/>
                </a:solidFill>
                <a:latin typeface="Calibri"/>
              </a:rPr>
              <a:t>if altered terms would have been offered, what would those terms have been </a:t>
            </a:r>
            <a:endParaRPr b="0" lang="en-US" sz="2000" spc="-1" strike="noStrike">
              <a:solidFill>
                <a:srgbClr val="202325"/>
              </a:solidFill>
              <a:latin typeface="Calibri"/>
            </a:endParaRPr>
          </a:p>
          <a:p>
            <a:pPr lvl="2" marL="717480" indent="-358560">
              <a:spcBef>
                <a:spcPts val="550"/>
              </a:spcBef>
              <a:buClr>
                <a:srgbClr val="a30005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Disclosure and inspection of underwriting files relevant re similar risks – what would the underwriter have done if true facts known? 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550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202325"/>
                </a:solidFill>
                <a:latin typeface="Calibri"/>
              </a:rPr>
              <a:t>Contemporaneous records of an underwriter’s reasons vital evidence</a:t>
            </a:r>
            <a:endParaRPr b="0" lang="en-US" sz="22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a3000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232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21:11:10Z</dcterms:created>
  <dc:creator>Miriam</dc:creator>
  <dc:description/>
  <dc:language>en-US</dc:language>
  <cp:lastModifiedBy>hxmaca</cp:lastModifiedBy>
  <cp:lastPrinted>2015-02-27T02:10:44Z</cp:lastPrinted>
  <dcterms:modified xsi:type="dcterms:W3CDTF">2015-03-17T03:27:03Z</dcterms:modified>
  <cp:revision>797</cp:revision>
  <dc:subject/>
  <dc:title>Life and Disability Underwriters and Claims Assessors of New Zealand</dc:title>
</cp:coreProperties>
</file>