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2162160" y="731520"/>
            <a:ext cx="2535120" cy="366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19600" y="9185400"/>
            <a:ext cx="124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ECD9-044D-4F62-AF54-E128D19A32E2}" type="slidenum">
              <a:rPr b="0" lang="en-AU" sz="2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6080040" y="9107640"/>
            <a:ext cx="438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1066680" y="4804920"/>
            <a:ext cx="464832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2165400" y="739800"/>
            <a:ext cx="252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9283680"/>
            <a:ext cx="2971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283680"/>
            <a:ext cx="2971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2162160" y="731880"/>
            <a:ext cx="253512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702-61F4-444A-A200-C554F3A9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24A-6A7C-4F9A-A644-D0FA986B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49A-7FE5-4F98-9207-E98FD1CA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101-537F-4DAC-A29F-32E80C0A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FAFF-663B-4EC2-BE43-EF1008EE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FC6F-39F3-4AA9-ABCB-9023B5B3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4505-09D8-4F21-A752-DF870AC7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E2A8-118A-4E69-B0FD-D1D4AE8F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5184-8AB2-4958-A340-15B8DD59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B524-E167-48EE-8783-D9293045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BE84-DFA0-40D2-A026-35950721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560-B98F-4E6B-A039-B5EE6C25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50E3-D622-4E38-A952-83DDC87A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D1C4-14C5-4B5E-97CA-B220A871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F3F7-B273-472F-A705-D4CA9F03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56E9-7410-45AA-B9C7-7F109548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6AB8-4DE9-420B-B8DC-DE2EB82F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BCB-5F06-4339-82D5-6BB09A41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844-7618-4A6F-BD27-C10076E0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F03-FCEC-4D25-B159-EABB8F16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7CC-9E40-4D13-905D-E76985F3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814-4C45-4C12-AD39-DE97BB79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B6F-B278-48E1-B154-5CA7E8BE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773-6832-40E2-A91F-CD81C773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992520"/>
            <a:chOff x="0" y="0"/>
            <a:chExt cx="6858000" cy="9992520"/>
          </a:xfrm>
        </p:grpSpPr>
        <p:sp>
          <p:nvSpPr>
            <p:cNvPr id="1" name=""/>
            <p:cNvSpPr/>
            <p:nvPr/>
          </p:nvSpPr>
          <p:spPr>
            <a:xfrm>
              <a:off x="6587640" y="641880"/>
              <a:ext cx="270000" cy="455328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6858000" cy="308160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680480"/>
              <a:ext cx="6858000" cy="822492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21560"/>
              <a:ext cx="6858000" cy="123372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474000"/>
              <a:ext cx="6858000" cy="15451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57240" y="2198880"/>
              <a:ext cx="5000400" cy="770652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973400"/>
              <a:ext cx="6858000" cy="441360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31440"/>
              <a:ext cx="4677840" cy="486108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E470-0970-4CF5-B80A-A3B650C93C0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6858000" cy="9992520"/>
            <a:chOff x="0" y="0"/>
            <a:chExt cx="6858000" cy="9992520"/>
          </a:xfrm>
        </p:grpSpPr>
        <p:sp>
          <p:nvSpPr>
            <p:cNvPr id="51" name=""/>
            <p:cNvSpPr/>
            <p:nvPr/>
          </p:nvSpPr>
          <p:spPr>
            <a:xfrm>
              <a:off x="6587640" y="641880"/>
              <a:ext cx="270000" cy="455328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6858000" cy="308160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680480"/>
              <a:ext cx="6858000" cy="822492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421560"/>
              <a:ext cx="6858000" cy="123372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474000"/>
              <a:ext cx="6858000" cy="15451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57240" y="2198880"/>
              <a:ext cx="5000400" cy="770652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4973400"/>
              <a:ext cx="6858000" cy="441360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5131440"/>
              <a:ext cx="4677840" cy="486108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A91F-6B9F-4DA5-9FAA-9018A0C5914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67652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cc00"/>
                </a:solidFill>
                <a:latin typeface="Times New Roman"/>
              </a:rPr>
              <a:t>An Introduction to the Privacy Ac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2640" y="3809520"/>
            <a:ext cx="476244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pe01561_" descr=""/>
          <p:cNvPicPr/>
          <p:nvPr/>
        </p:nvPicPr>
        <p:blipFill>
          <a:blip r:embed="rId1"/>
          <a:stretch/>
        </p:blipFill>
        <p:spPr>
          <a:xfrm>
            <a:off x="1219320" y="571500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0560" y="887040"/>
            <a:ext cx="5816880" cy="1638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PP 3 - Collection of Personal Inform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From Subject (B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7760" y="4185720"/>
            <a:ext cx="5829480" cy="46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t is authorised by the individ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65120" indent="-465120"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t would not prejudice the individual’s interes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65120" indent="-465120"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mpliance would prejudice purposes of coll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65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65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5b1b"/>
                </a:solidFill>
                <a:latin typeface="Times New Roman"/>
              </a:rPr>
              <a:t>Also certain other grounds IPP 3(4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65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65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c06"/>
                </a:solidFill>
                <a:latin typeface="Times New Roman"/>
              </a:rPr>
              <a:t>Repeat explanation not necessa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65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c06"/>
                </a:solidFill>
                <a:latin typeface="Times New Roman"/>
              </a:rPr>
              <a:t>If given recent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2800" y="3125880"/>
            <a:ext cx="5880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on-compliance permissible where agency believes, on reasonable grounds, tha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0560" y="887040"/>
            <a:ext cx="5816880" cy="1638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PP 4 - Manner of Collection of Personal Informatio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0040" y="3957120"/>
            <a:ext cx="5829480" cy="439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9200" indent="-349200"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Unlawful mea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eans that, in the circumstances are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Unfai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Unreasonably intrude upon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dividual’s personal affair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828800" y="6859440"/>
          <a:ext cx="237492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859440"/>
                    <a:ext cx="237492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080" y="2982960"/>
            <a:ext cx="5768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ersonal information must not be collec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286160" y="3278160"/>
          <a:ext cx="2284560" cy="34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6160" y="3278160"/>
                    <a:ext cx="228456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68280" y="3446640"/>
            <a:ext cx="3664080" cy="306864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86360" y="8475840"/>
            <a:ext cx="57168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4600" y="749160"/>
            <a:ext cx="5816520" cy="13082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KEY CONCEP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URPOSE AND OPENN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5840" y="3948120"/>
            <a:ext cx="3121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Develop information handling polic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5840" y="5167440"/>
            <a:ext cx="3121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Convey policies when collecting inform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4121280"/>
            <a:ext cx="444600" cy="444240"/>
          </a:xfrm>
          <a:prstGeom prst="star5">
            <a:avLst/>
          </a:prstGeom>
          <a:solidFill>
            <a:srgbClr val="ed0c0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5264280"/>
            <a:ext cx="444600" cy="444240"/>
          </a:xfrm>
          <a:prstGeom prst="star5">
            <a:avLst/>
          </a:prstGeom>
          <a:solidFill>
            <a:srgbClr val="ed0c0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0560" y="887040"/>
            <a:ext cx="5816880" cy="1638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PP 5 - Storage and Security of Informatio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90040" y="4109760"/>
            <a:ext cx="582948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9200" indent="-349200"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o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Unauthorised access, use, modification or discl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ther misu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5440" y="2878200"/>
            <a:ext cx="5803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gency holding personal information must take </a:t>
            </a:r>
            <a:r>
              <a:rPr b="1" lang="en-US" sz="2400" spc="-1" strike="noStrike">
                <a:solidFill>
                  <a:srgbClr val="ed0c06"/>
                </a:solidFill>
                <a:latin typeface="Times New Roman"/>
              </a:rPr>
              <a:t>reasonable security safeguard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o protect agains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5960" y="6442200"/>
            <a:ext cx="5778360" cy="30463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5920" y="6780240"/>
            <a:ext cx="348840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Physical secur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Operational secur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Security of transmiss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Disposal or destruc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20560" y="887040"/>
            <a:ext cx="5816880" cy="1638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PP 6 - Access to Personal Information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4440" y="3053880"/>
            <a:ext cx="5829120" cy="575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here an agency holds personal information in a way that it can readily be retrieved, individuals are entitled to have access to information relating to th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81080" y="5099040"/>
          <a:ext cx="291492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099040"/>
                    <a:ext cx="291492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20560" y="887040"/>
            <a:ext cx="5816880" cy="1638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PP 6 - Access to Personal Information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bligations of agencies 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rovide as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ransfer access reques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spond within time limi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ake information available in form request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recautions by appropriate procedur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atisfactory identification of individ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uthority of ag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imes New Roman"/>
              </a:rPr>
              <a:t>Charg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imes New Roman"/>
              </a:rPr>
              <a:t>No charge by public sector ag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imes New Roman"/>
              </a:rPr>
              <a:t>Reasonable charges by oth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Times New Roman"/>
              </a:rPr>
              <a:t>Withholding Grounds -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inciple</a:t>
            </a:r>
            <a:r>
              <a:rPr b="0" lang="en-AU" sz="4400" spc="-1" strike="noStrike">
                <a:solidFill>
                  <a:srgbClr val="ffcc00"/>
                </a:solidFill>
                <a:latin typeface="Times New Roman"/>
              </a:rPr>
              <a:t> 6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27(1)(c) - prejudice maintenance of la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27(1)(d) - endanger safe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29(1)(a) - unwarranted disclo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29(1)(c) - prejudice physical / mental heal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29(2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 - not readily retrievable / cannot be found / does not ex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14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20560" y="887040"/>
            <a:ext cx="5816880" cy="1638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PP 7 - Correction of Personal Informatio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n individual is entitled to request the correction of inform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gency must either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c06"/>
                </a:solidFill>
                <a:latin typeface="Times New Roman"/>
              </a:rPr>
              <a:t>Agency must notify known recipients of the information about this corr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5960" y="4959360"/>
            <a:ext cx="5778360" cy="2425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4040" y="5189400"/>
            <a:ext cx="542268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Make corr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c06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Attach statement by individual of correction sou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20560" y="887040"/>
            <a:ext cx="5816880" cy="1638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PP 8 - Accuracy of Personal Information to Be Checked Before Us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gencies must take reasonable steps to ensure personal information is accurate before using 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50720" y="4398840"/>
            <a:ext cx="6142320" cy="4535280"/>
            <a:chOff x="450720" y="4398840"/>
            <a:chExt cx="6142320" cy="4535280"/>
          </a:xfrm>
        </p:grpSpPr>
        <p:graphicFrame>
          <p:nvGraphicFramePr>
            <p:cNvPr id="184" name=""/>
            <p:cNvGraphicFramePr/>
            <p:nvPr/>
          </p:nvGraphicFramePr>
          <p:xfrm>
            <a:off x="1154160" y="5103720"/>
            <a:ext cx="4406760" cy="317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54160" y="5103720"/>
                      <a:ext cx="4406760" cy="317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"/>
            <p:cNvSpPr/>
            <p:nvPr/>
          </p:nvSpPr>
          <p:spPr>
            <a:xfrm>
              <a:off x="2612880" y="6380280"/>
              <a:ext cx="1749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</a:rPr>
                <a:t>Accurate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0720" y="4398840"/>
              <a:ext cx="12160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Up to dat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95720" y="4398840"/>
              <a:ext cx="1597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Complet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0720" y="8113680"/>
              <a:ext cx="1597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Not misleadin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68800" y="8443800"/>
              <a:ext cx="1521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Relevan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20560" y="887040"/>
            <a:ext cx="5816880" cy="1638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PP 9 - Agency Not to Keep Personal Information or Longer Than Necessary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4440" y="2971440"/>
            <a:ext cx="5829120" cy="17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gency holding personal information shall not keep it for longer than required for the purposes for which it may lawfully be us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960" y="5203800"/>
            <a:ext cx="5778360" cy="36291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70120" y="5541840"/>
            <a:ext cx="5376600" cy="32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Should it be retained at a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If so, for how lo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Note legal obligations to retain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eg. tax, medical recor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Consider return, destruction, transf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0560" y="595440"/>
            <a:ext cx="5816880" cy="1226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Privacy Act 1993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2205000"/>
            <a:ext cx="6172200" cy="716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ffffcc"/>
                </a:solidFill>
                <a:latin typeface="Times New Roman"/>
              </a:rPr>
              <a:t>Promotes and protects individual privacy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ffffcc"/>
                </a:solidFill>
                <a:latin typeface="Times New Roman"/>
              </a:rPr>
              <a:t>Is concerned with the privacy of information about people rather than physical intrusions into privacy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ffffcc"/>
                </a:solidFill>
                <a:latin typeface="Times New Roman"/>
              </a:rPr>
              <a:t>Establishes 12 information privacy principles which regulate the collection, storage, use and disclosure of personal information and give people the right to access and correct their information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ffffcc"/>
                </a:solidFill>
                <a:latin typeface="Times New Roman"/>
              </a:rPr>
              <a:t>Allows the </a:t>
            </a:r>
            <a:r>
              <a:rPr b="1" lang="en-NZ" sz="21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1" lang="en-AU" sz="2100" spc="-1" strike="noStrike">
                <a:solidFill>
                  <a:srgbClr val="ffffcc"/>
                </a:solidFill>
                <a:latin typeface="Times New Roman"/>
              </a:rPr>
              <a:t>rivacy </a:t>
            </a:r>
            <a:r>
              <a:rPr b="1" lang="en-NZ" sz="21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1" lang="en-AU" sz="2100" spc="-1" strike="noStrike">
                <a:solidFill>
                  <a:srgbClr val="ffffcc"/>
                </a:solidFill>
                <a:latin typeface="Times New Roman"/>
              </a:rPr>
              <a:t>ommissioner to issue industry specific codes of practice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ffffcc"/>
                </a:solidFill>
                <a:latin typeface="Times New Roman"/>
              </a:rPr>
              <a:t>Sets out rules for information matching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ffffcc"/>
                </a:solidFill>
                <a:latin typeface="Times New Roman"/>
              </a:rPr>
              <a:t>Provides a set of principles regulating how information on public registers can be used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ffffcc"/>
                </a:solidFill>
                <a:latin typeface="Times New Roman"/>
              </a:rPr>
              <a:t>Sets up a complaints procedure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ffffcc"/>
                </a:solidFill>
                <a:latin typeface="Times New Roman"/>
              </a:rPr>
              <a:t>Sets out how law enforcement information is to be dealt with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ffffcc"/>
                </a:solidFill>
                <a:latin typeface="Times New Roman"/>
              </a:rPr>
              <a:t>Provides for the appointment of a </a:t>
            </a:r>
            <a:r>
              <a:rPr b="1" lang="en-NZ" sz="21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1" lang="en-AU" sz="2100" spc="-1" strike="noStrike">
                <a:solidFill>
                  <a:srgbClr val="ffffcc"/>
                </a:solidFill>
                <a:latin typeface="Times New Roman"/>
              </a:rPr>
              <a:t>rivacy </a:t>
            </a:r>
            <a:r>
              <a:rPr b="1" lang="en-NZ" sz="21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1" lang="en-AU" sz="2100" spc="-1" strike="noStrike">
                <a:solidFill>
                  <a:srgbClr val="ffffcc"/>
                </a:solidFill>
                <a:latin typeface="Times New Roman"/>
              </a:rPr>
              <a:t>ommissioner and sets out his role and functions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20560" y="798480"/>
            <a:ext cx="5816880" cy="15112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PP 10 - Limits on Use of Personal Informatio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2560320"/>
            <a:ext cx="5829120" cy="16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7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ersonal information collected for one purpose cannot be used for another purpose unless agency believes, on reasonable grounds, tha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c06"/>
                </a:solidFill>
                <a:latin typeface="Times New Roman"/>
              </a:rPr>
              <a:t>(Non-compliance permissible 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c06"/>
                </a:solidFill>
                <a:latin typeface="Times New Roman"/>
              </a:rPr>
              <a:t>Certain other ground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2800" y="4059360"/>
            <a:ext cx="5880240" cy="40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9200" indent="-34920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Use for other purpose authorised by individual concern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formation sourced from publicly available publ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Use for other purpose necessary to prevent or lessen a serious and imminent threat 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-  public health / safe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-  life / health of some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urpose is directly related to the purpose for  which it was collec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20560" y="887040"/>
            <a:ext cx="5816880" cy="1638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PP 11 - Limits of Disclosure of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Personal Informatio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5829120" cy="33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n agency shall not disclose personal information unless it believes, on reasonable grounds, that disclosure: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c06"/>
                </a:solidFill>
                <a:latin typeface="Times New Roman"/>
              </a:rPr>
              <a:t>(Non compliance permissible 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c06"/>
                </a:solidFill>
                <a:latin typeface="Times New Roman"/>
              </a:rPr>
              <a:t>Certain other ground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5440" y="4281480"/>
            <a:ext cx="557532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9200" indent="-349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s to the individual concern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s authorised by the individ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s one of the purposes in connection with which the information was obtained or is a directly related purpo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s in a form in which the individual is not identif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0560" y="887040"/>
            <a:ext cx="5816880" cy="1638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nformation Privacy Principle 11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54240" y="8845560"/>
            <a:ext cx="3340080" cy="44460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36960" y="8991720"/>
            <a:ext cx="3435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Authorised by Privacy Commission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54240" y="8236080"/>
            <a:ext cx="3340080" cy="44424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54240" y="7626240"/>
            <a:ext cx="3340080" cy="44460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54240" y="7016760"/>
            <a:ext cx="3340080" cy="44460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54240" y="6407280"/>
            <a:ext cx="3340080" cy="44424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54240" y="5797440"/>
            <a:ext cx="3340080" cy="44460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54240" y="5187960"/>
            <a:ext cx="3340080" cy="44460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54240" y="4578480"/>
            <a:ext cx="3340080" cy="44424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7640" y="4648320"/>
            <a:ext cx="1690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Research (No I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22040" y="5257800"/>
            <a:ext cx="2040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Purpose of Collec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0" y="5943600"/>
            <a:ext cx="1766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Publicly Availabl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9400" y="6553080"/>
            <a:ext cx="228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Maintenance of the La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48840" y="7162920"/>
            <a:ext cx="138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To the Pers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71560" y="7696080"/>
            <a:ext cx="2202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Public Health or Safet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46080" y="8305920"/>
            <a:ext cx="2170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Needed to sell Busines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30360" y="2901960"/>
            <a:ext cx="3568680" cy="52056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30360" y="3816360"/>
            <a:ext cx="3568680" cy="52056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22200" y="3871800"/>
            <a:ext cx="215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DISCL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64520" y="2957400"/>
            <a:ext cx="236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n’t do it unl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4419720"/>
            <a:ext cx="0" cy="4724280"/>
          </a:xfrm>
          <a:prstGeom prst="line">
            <a:avLst/>
          </a:prstGeom>
          <a:ln w="76320">
            <a:solidFill>
              <a:srgbClr val="ed0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9144000"/>
            <a:ext cx="990720" cy="0"/>
          </a:xfrm>
          <a:prstGeom prst="line">
            <a:avLst/>
          </a:prstGeom>
          <a:ln w="76320">
            <a:solidFill>
              <a:srgbClr val="ed0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8458200"/>
            <a:ext cx="990720" cy="0"/>
          </a:xfrm>
          <a:prstGeom prst="line">
            <a:avLst/>
          </a:prstGeom>
          <a:ln w="76320">
            <a:solidFill>
              <a:srgbClr val="ed0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7848720"/>
            <a:ext cx="990720" cy="0"/>
          </a:xfrm>
          <a:prstGeom prst="line">
            <a:avLst/>
          </a:prstGeom>
          <a:ln w="76320">
            <a:solidFill>
              <a:srgbClr val="ed0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7315200"/>
            <a:ext cx="990720" cy="0"/>
          </a:xfrm>
          <a:prstGeom prst="line">
            <a:avLst/>
          </a:prstGeom>
          <a:ln w="76320">
            <a:solidFill>
              <a:srgbClr val="ed0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6705720"/>
            <a:ext cx="990720" cy="0"/>
          </a:xfrm>
          <a:prstGeom prst="line">
            <a:avLst/>
          </a:prstGeom>
          <a:ln w="76320">
            <a:solidFill>
              <a:srgbClr val="ed0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6019920"/>
            <a:ext cx="990720" cy="0"/>
          </a:xfrm>
          <a:prstGeom prst="line">
            <a:avLst/>
          </a:prstGeom>
          <a:ln w="76320">
            <a:solidFill>
              <a:srgbClr val="ed0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5486400"/>
            <a:ext cx="990720" cy="0"/>
          </a:xfrm>
          <a:prstGeom prst="line">
            <a:avLst/>
          </a:prstGeom>
          <a:ln w="76320">
            <a:solidFill>
              <a:srgbClr val="ed0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w="76320">
            <a:solidFill>
              <a:srgbClr val="ed0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429000"/>
            <a:ext cx="0" cy="380880"/>
          </a:xfrm>
          <a:prstGeom prst="line">
            <a:avLst/>
          </a:prstGeom>
          <a:ln w="76320">
            <a:solidFill>
              <a:srgbClr val="ed0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20560" y="887040"/>
            <a:ext cx="5816880" cy="1638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PP 12 - Unique Identifier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gencies not to assign unique identifiers unless necessary to enable them to carry out their functions efficient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gencies not to assign unique identifier that has been assigned by another ag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learly identify the individual before assigning unique identifi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gencies not to require people to disclose a unique identifier assigned by another agency unless disclosure is for the purposes for which that unique identifier was assign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 flipH="1" rot="16200000">
            <a:off x="917280" y="5565600"/>
            <a:ext cx="622440" cy="425520"/>
          </a:xfrm>
          <a:prstGeom prst="rightArrow">
            <a:avLst>
              <a:gd name="adj1" fmla="val 75000"/>
              <a:gd name="adj2" fmla="val 73145"/>
            </a:avLst>
          </a:prstGeom>
          <a:solidFill>
            <a:srgbClr val="ed0c0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600" y="7389720"/>
            <a:ext cx="1922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8760" y="6195960"/>
            <a:ext cx="1968480" cy="86688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2616120"/>
            <a:ext cx="2119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73160" y="2097000"/>
            <a:ext cx="2197080" cy="63972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73480" y="2303640"/>
            <a:ext cx="12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279f"/>
                </a:solidFill>
                <a:latin typeface="Times New Roman"/>
              </a:rPr>
              <a:t>Notific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6840" y="8142120"/>
            <a:ext cx="2654280" cy="75888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40320" y="8375760"/>
            <a:ext cx="269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Complaints Review Tribun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7240" y="3417840"/>
            <a:ext cx="2121120" cy="108900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495680" y="5715000"/>
          <a:ext cx="22003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5715000"/>
                    <a:ext cx="2200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444600" y="417600"/>
            <a:ext cx="5816520" cy="1404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omplaints Proce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06240" y="3618000"/>
            <a:ext cx="2150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Commissioner assist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parties with settlemen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73160" y="2935440"/>
            <a:ext cx="2197080" cy="63972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86880" y="3124080"/>
            <a:ext cx="131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279f"/>
                </a:solidFill>
                <a:latin typeface="Times New Roman"/>
              </a:rPr>
              <a:t>Investig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3160" y="4611600"/>
            <a:ext cx="2197080" cy="63972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10560" y="4800600"/>
            <a:ext cx="1338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Final opin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73160" y="3773520"/>
            <a:ext cx="2197080" cy="63972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52640" y="3822840"/>
            <a:ext cx="2298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Provisional Opin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- with right of respons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rot="16200000">
            <a:off x="2974680" y="5565600"/>
            <a:ext cx="622440" cy="425520"/>
          </a:xfrm>
          <a:prstGeom prst="rightArrow">
            <a:avLst>
              <a:gd name="adj1" fmla="val 75000"/>
              <a:gd name="adj2" fmla="val 73145"/>
            </a:avLst>
          </a:prstGeom>
          <a:solidFill>
            <a:srgbClr val="ed0c0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3720" y="6400800"/>
            <a:ext cx="2039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Referred by  Privacy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Commission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92480" y="6195960"/>
            <a:ext cx="1968480" cy="86688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19280" y="6394320"/>
            <a:ext cx="13654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Referred b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Complainan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rot="16200000">
            <a:off x="1936440" y="7270560"/>
            <a:ext cx="622440" cy="67320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ed0c0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429000" y="4419360"/>
            <a:ext cx="609480" cy="609480"/>
          </a:xfrm>
          <a:prstGeom prst="line">
            <a:avLst/>
          </a:prstGeom>
          <a:ln w="76320">
            <a:solidFill>
              <a:srgbClr val="ed0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4114800"/>
            <a:ext cx="609480" cy="0"/>
          </a:xfrm>
          <a:prstGeom prst="line">
            <a:avLst/>
          </a:prstGeom>
          <a:ln w="76320">
            <a:solidFill>
              <a:srgbClr val="ed0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2514600"/>
            <a:ext cx="685800" cy="914400"/>
          </a:xfrm>
          <a:prstGeom prst="line">
            <a:avLst/>
          </a:prstGeom>
          <a:ln w="76320">
            <a:solidFill>
              <a:srgbClr val="ed0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3429000"/>
            <a:ext cx="609480" cy="304920"/>
          </a:xfrm>
          <a:prstGeom prst="line">
            <a:avLst/>
          </a:prstGeom>
          <a:ln w="76320">
            <a:solidFill>
              <a:srgbClr val="ed0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956560" cy="19465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Privacy Act  and Official Information Act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3680" y="3054240"/>
            <a:ext cx="2425680" cy="9781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9520" y="3124080"/>
            <a:ext cx="1989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Requester X asks fo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information abou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himself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40040" y="3054240"/>
            <a:ext cx="2654280" cy="9781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50160" y="3384720"/>
            <a:ext cx="146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Privacy Ac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78280" y="3282840"/>
            <a:ext cx="672840" cy="596880"/>
          </a:xfrm>
          <a:prstGeom prst="rightArrow">
            <a:avLst>
              <a:gd name="adj1" fmla="val 50000"/>
              <a:gd name="adj2" fmla="val 56368"/>
            </a:avLst>
          </a:prstGeom>
          <a:solidFill>
            <a:srgbClr val="ed0c0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40040" y="4044960"/>
            <a:ext cx="2654280" cy="1511280"/>
          </a:xfrm>
          <a:prstGeom prst="rect">
            <a:avLst/>
          </a:prstGeom>
          <a:solidFill>
            <a:srgbClr val="66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IPP 6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Part IV Privacy Ac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ections 27-29 -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withholding ground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appl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6102360"/>
            <a:ext cx="2349720" cy="97776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8840" y="6324480"/>
            <a:ext cx="1989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Requester X asks fo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</a:rPr>
              <a:t>information about 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40040" y="6102360"/>
            <a:ext cx="2654280" cy="97776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9040" y="6257880"/>
            <a:ext cx="2822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Official Inform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Ac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40040" y="7093080"/>
            <a:ext cx="2654280" cy="2349360"/>
          </a:xfrm>
          <a:prstGeom prst="rect">
            <a:avLst/>
          </a:prstGeom>
          <a:solidFill>
            <a:srgbClr val="66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ection 5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Presumption of availabilit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Unless good reason fo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withholding inform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ection 9(2)(a) protec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privacy of natural person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78280" y="6407280"/>
            <a:ext cx="672840" cy="596880"/>
          </a:xfrm>
          <a:prstGeom prst="rightArrow">
            <a:avLst>
              <a:gd name="adj1" fmla="val 50000"/>
              <a:gd name="adj2" fmla="val 56368"/>
            </a:avLst>
          </a:prstGeom>
          <a:solidFill>
            <a:srgbClr val="ed0c0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rot="16200000">
            <a:off x="4844160" y="7740720"/>
            <a:ext cx="215640" cy="2919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ed0c0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rot="16200000">
            <a:off x="4843800" y="8502480"/>
            <a:ext cx="216000" cy="2919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ed0c0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429000" y="2762280"/>
            <a:ext cx="25131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1040" y="6062760"/>
            <a:ext cx="2578320" cy="183024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200400" y="4657680"/>
          <a:ext cx="342900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657680"/>
                    <a:ext cx="342900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387360" y="3308400"/>
            <a:ext cx="2502000" cy="180324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2080" y="3643200"/>
            <a:ext cx="2511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Action authoris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by oth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Legisl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0160" y="6424560"/>
            <a:ext cx="25696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Privacy A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Does not Derog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0560" y="950760"/>
            <a:ext cx="5816880" cy="15112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Other Legisl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5181480"/>
            <a:ext cx="0" cy="838440"/>
          </a:xfrm>
          <a:prstGeom prst="line">
            <a:avLst/>
          </a:prstGeom>
          <a:ln w="76320">
            <a:solidFill>
              <a:srgbClr val="ed0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5532120"/>
            <a:ext cx="5867280" cy="345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7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Telephone: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4-474 759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17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Enquiries hotline: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0800 803 9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17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Or: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09-302 865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17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Email: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privacy@</a:t>
            </a: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actrix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NZ" sz="2000" spc="-1" strike="noStrike">
                <a:solidFill>
                  <a:srgbClr val="99ff33"/>
                </a:solidFill>
                <a:latin typeface="Times New Roman"/>
              </a:rPr>
              <a:t>c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o.n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17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17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Internet address: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http://www.</a:t>
            </a:r>
            <a:r>
              <a:rPr b="0" lang="en-NZ" sz="20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rivacy.</a:t>
            </a:r>
            <a:r>
              <a:rPr b="0" lang="en-NZ" sz="2000" spc="-1" strike="noStrike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rg.n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17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17188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Postal address: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NZ" sz="20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rivacy </a:t>
            </a:r>
            <a:r>
              <a:rPr b="0" lang="en-NZ" sz="2000" spc="-1" strike="noStrike">
                <a:solidFill>
                  <a:srgbClr val="99ff33"/>
                </a:solidFill>
                <a:latin typeface="Times New Roman"/>
              </a:rPr>
              <a:t>C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ommission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17188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PO </a:t>
            </a:r>
            <a:r>
              <a:rPr b="0" lang="en-NZ" sz="2000" spc="-1" strike="noStrike">
                <a:solidFill>
                  <a:srgbClr val="99ff33"/>
                </a:solidFill>
                <a:latin typeface="Times New Roman"/>
              </a:rPr>
              <a:t>B</a:t>
            </a:r>
            <a:r>
              <a:rPr b="0" lang="en-AU" sz="2000" spc="-1" strike="noStrike">
                <a:solidFill>
                  <a:srgbClr val="99ff33"/>
                </a:solidFill>
                <a:latin typeface="Times New Roman"/>
              </a:rPr>
              <a:t>ox </a:t>
            </a: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10-09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17188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Wellingt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3200" y="1103400"/>
            <a:ext cx="5816520" cy="15112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on’t blame the Privacy Ac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752480" y="1778040"/>
          <a:ext cx="3962520" cy="34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778040"/>
                    <a:ext cx="396252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20560" y="887040"/>
            <a:ext cx="5816880" cy="1638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Definition of Personal Informatio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440" y="317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formation about an identifiable individ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oes not include information about a corporate bod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114800" y="5334120"/>
          <a:ext cx="2031840" cy="34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334120"/>
                    <a:ext cx="203184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0560" y="887040"/>
            <a:ext cx="5816880" cy="1638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Agency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440" y="30178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cc"/>
                </a:solidFill>
                <a:latin typeface="Times New Roman"/>
              </a:rPr>
              <a:t>Any person or body of pers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cc"/>
                </a:solidFill>
                <a:latin typeface="Times New Roman"/>
              </a:rPr>
              <a:t>Corporate or unincorpor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cc"/>
                </a:solidFill>
                <a:latin typeface="Times New Roman"/>
              </a:rPr>
              <a:t>Public or private sect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cc"/>
                </a:solidFill>
                <a:latin typeface="Times New Roman"/>
              </a:rPr>
              <a:t>Some exceptions: </a:t>
            </a:r>
            <a:r>
              <a:rPr b="1" lang="en-NZ" sz="2400" spc="-1" strike="noStrike">
                <a:solidFill>
                  <a:srgbClr val="ffffcc"/>
                </a:solidFill>
                <a:latin typeface="Times New Roman"/>
              </a:rPr>
              <a:t>MP</a:t>
            </a:r>
            <a:r>
              <a:rPr b="1" lang="en-AU" sz="2400" spc="-1" strike="noStrike">
                <a:solidFill>
                  <a:srgbClr val="ffffcc"/>
                </a:solidFill>
                <a:latin typeface="Times New Roman"/>
              </a:rPr>
              <a:t>s, courts and tribunals, news media in relation to its news activit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cc"/>
                </a:solidFill>
                <a:latin typeface="Times New Roman"/>
              </a:rPr>
              <a:t>Sections 3 and 4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e01460_" descr=""/>
          <p:cNvPicPr/>
          <p:nvPr/>
        </p:nvPicPr>
        <p:blipFill>
          <a:blip r:embed="rId1"/>
          <a:stretch/>
        </p:blipFill>
        <p:spPr>
          <a:xfrm>
            <a:off x="2438280" y="6705720"/>
            <a:ext cx="2268720" cy="2819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6858000" cy="2133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cc00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reach of IPP</a:t>
            </a:r>
            <a:br>
              <a:rPr sz="2800"/>
            </a:br>
            <a:r>
              <a:rPr b="1" lang="en-US" sz="2800" spc="-1" strike="noStrike">
                <a:solidFill>
                  <a:srgbClr val="ed0c06"/>
                </a:solidFill>
                <a:latin typeface="Times New Roman"/>
              </a:rPr>
              <a:t>AND</a:t>
            </a:r>
            <a:br>
              <a:rPr sz="2800"/>
            </a:b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dverse Consequence</a:t>
            </a:r>
            <a:br>
              <a:rPr sz="2800"/>
            </a:b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esults in Interference With Individual’s Privacy</a:t>
            </a:r>
            <a:br>
              <a:rPr sz="36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7760" y="2433600"/>
            <a:ext cx="582948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9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8240" y="6610320"/>
            <a:ext cx="1206720" cy="89532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3320" y="6862680"/>
            <a:ext cx="111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Brea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9840" y="6775560"/>
            <a:ext cx="444600" cy="482400"/>
          </a:xfrm>
          <a:prstGeom prst="plus">
            <a:avLst>
              <a:gd name="adj" fmla="val 24995"/>
            </a:avLst>
          </a:prstGeom>
          <a:solidFill>
            <a:srgbClr val="ed0c0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9680" y="6610320"/>
            <a:ext cx="1206360" cy="89532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21280" y="6692760"/>
            <a:ext cx="368280" cy="235080"/>
          </a:xfrm>
          <a:prstGeom prst="rect">
            <a:avLst/>
          </a:prstGeom>
          <a:solidFill>
            <a:srgbClr val="ed0c0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21280" y="7105680"/>
            <a:ext cx="368280" cy="235080"/>
          </a:xfrm>
          <a:prstGeom prst="rect">
            <a:avLst/>
          </a:prstGeom>
          <a:solidFill>
            <a:srgbClr val="ed0c0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54440" y="6610320"/>
            <a:ext cx="1816200" cy="895320"/>
          </a:xfrm>
          <a:prstGeom prst="roundRect">
            <a:avLst>
              <a:gd name="adj" fmla="val 12495"/>
            </a:avLst>
          </a:prstGeom>
          <a:solidFill>
            <a:srgbClr val="fe9b0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07720" y="6862680"/>
            <a:ext cx="1792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Interfer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3579840"/>
          <a:ext cx="281952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79840"/>
                    <a:ext cx="28195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957400" y="68626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Lo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20560" y="915840"/>
            <a:ext cx="5816880" cy="1306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nterference With Privacy (Acces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360" y="3957480"/>
            <a:ext cx="586728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9200" indent="-349200" algn="just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Referr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Failure to respond within 20 working d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onditions on u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harg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Refusal to corr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5440" y="2960640"/>
            <a:ext cx="5667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erference with privacy if there is no proper basis for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e01476_" descr=""/>
          <p:cNvPicPr/>
          <p:nvPr/>
        </p:nvPicPr>
        <p:blipFill>
          <a:blip r:embed="rId1"/>
          <a:stretch/>
        </p:blipFill>
        <p:spPr>
          <a:xfrm>
            <a:off x="3868560" y="6477120"/>
            <a:ext cx="264960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14440" y="9024840"/>
            <a:ext cx="1428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43240" y="9024840"/>
            <a:ext cx="2171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8240" y="5946840"/>
            <a:ext cx="5778720" cy="30463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0560" y="887040"/>
            <a:ext cx="5816880" cy="1638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PP 1 - Purpose of Collection of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Personal Informatio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440" y="3538440"/>
            <a:ext cx="58039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1840" indent="-231840" algn="just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formation is collected for a lawful purpose connected with the function / activity of the ag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1840" indent="-231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1840" indent="-231840" algn="just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llection necessary for that purpo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6600" y="2900520"/>
            <a:ext cx="5325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ot to be collected by an agency </a:t>
            </a:r>
            <a:r>
              <a:rPr b="1" lang="en-US" sz="2400" spc="-1" strike="noStrike">
                <a:solidFill>
                  <a:srgbClr val="ed0c06"/>
                </a:solidFill>
                <a:latin typeface="Times New Roman"/>
              </a:rPr>
              <a:t>unles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4040" y="6180120"/>
            <a:ext cx="557532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Lawful purpo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Is it purpose connected with a function / activity of the agenc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Is collection necessary for that purpo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4240" y="569880"/>
            <a:ext cx="5816520" cy="15112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PP 2 - Source of Personal Informatio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2408040"/>
            <a:ext cx="6039000" cy="25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here an agency collects personal information, the agency shall collect the information directly from the individual concern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166680"/>
                <a:tab algn="l" pos="33336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o compliance permissible where the agency believes, on reasonable grounds, tha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65120" indent="0" algn="just">
              <a:spcBef>
                <a:spcPts val="601"/>
              </a:spcBef>
              <a:buNone/>
              <a:tabLst>
                <a:tab algn="l" pos="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  <a:tab algn="l" pos="3500280"/>
                <a:tab algn="l" pos="366696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65120" indent="0" algn="just">
              <a:spcBef>
                <a:spcPts val="601"/>
              </a:spcBef>
              <a:buNone/>
              <a:tabLst>
                <a:tab algn="l" pos="0"/>
                <a:tab algn="l" pos="500040"/>
                <a:tab algn="l" pos="666720"/>
                <a:tab algn="l" pos="833400"/>
                <a:tab algn="l" pos="1000080"/>
                <a:tab algn="l" pos="1166760"/>
                <a:tab algn="l" pos="1333440"/>
                <a:tab algn="l" pos="1500120"/>
                <a:tab algn="l" pos="1666800"/>
                <a:tab algn="l" pos="1833480"/>
                <a:tab algn="l" pos="2000160"/>
                <a:tab algn="l" pos="2166840"/>
                <a:tab algn="l" pos="2333520"/>
                <a:tab algn="l" pos="2500200"/>
                <a:tab algn="l" pos="2666880"/>
                <a:tab algn="l" pos="2833560"/>
                <a:tab algn="l" pos="3000240"/>
                <a:tab algn="l" pos="3166920"/>
                <a:tab algn="l" pos="3333600"/>
                <a:tab algn="l" pos="3500280"/>
                <a:tab algn="l" pos="366696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2800" y="5119560"/>
            <a:ext cx="588024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9200" indent="-349200"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dividual has authorised collection of the information from someone 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mpliance would prejudice the purpose of that coll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mpliance not reasonably practicable in the circumstan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9120" y="8256600"/>
            <a:ext cx="5803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c06"/>
                </a:solidFill>
                <a:latin typeface="Times New Roman"/>
              </a:rPr>
              <a:t>(Non-compliance permissible 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c06"/>
                </a:solidFill>
                <a:latin typeface="Times New Roman"/>
              </a:rPr>
              <a:t>certain other ground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0560" y="887040"/>
            <a:ext cx="5816880" cy="15224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22001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PP 3 - Collection of Personal Inform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From Subject  (A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440" y="2712960"/>
            <a:ext cx="5829120" cy="15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here personal information collected directly from individual concerned, agency required to take reasonable steps to ensure individual is aware of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9120" y="4243320"/>
            <a:ext cx="595620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9200" indent="-349200" algn="just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act information is being collec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urpose for which information is collec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ended recipients of inform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ntact details for agencies collecting and holding inform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hether supply of information is mandatory / voluntary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(Where law authorise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/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requires collect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nsequences if information not suppl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ights of access and corr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c06"/>
                </a:solidFill>
                <a:latin typeface="Times New Roman"/>
              </a:rPr>
              <a:t>Provide these details befo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9200" indent="-3492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c06"/>
                </a:solidFill>
                <a:latin typeface="Times New Roman"/>
              </a:rPr>
              <a:t>collection if practic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4T09:27:26Z</dcterms:created>
  <dc:creator>Privacy Commission</dc:creator>
  <dc:description/>
  <dc:language>en-US</dc:language>
  <cp:lastModifiedBy>Royal &amp; SunAlliance</cp:lastModifiedBy>
  <cp:lastPrinted>1999-02-08T14:52:10Z</cp:lastPrinted>
  <dcterms:modified xsi:type="dcterms:W3CDTF">2002-06-12T03:47:30Z</dcterms:modified>
  <cp:revision>27</cp:revision>
  <dc:subject/>
  <dc:title>An Introduction to the Privacy Act 1993</dc:title>
</cp:coreProperties>
</file>