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DB0-4BD9-4B09-9CE7-3A955DCD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836A-3E4F-400E-A77E-1D1D70BF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293-22DF-4822-88CA-48239E04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9414-B81E-4E52-97EB-27622A63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84D8-A8E4-4295-9CF1-BF206BB8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DD3D-C42F-44EC-9A8F-51074103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1D78-546B-4FC8-9BB9-C0B81412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4297-F463-4B25-9F4D-9E729267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F799-6266-4042-9094-467E49A3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8A1C-1FB1-4AAC-AE74-85607CDA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CB0B-7748-48A4-A5A6-0A63D3DD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87B-4D88-4430-95D6-23D85296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7860-5F0F-4EFF-8299-1FFE7AB4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0E6F-234E-4FC2-9BD2-E48B0A7C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69B5-BF91-4EC3-BAD8-3A2B4E1C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5DEE-ECB0-42C2-900D-0BAA50DC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4FF6-B87C-406E-A17C-291517AA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C74D-B06D-4947-AF35-46FCED1D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C2A-8B4D-4446-9757-4C1B277F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C16-E7C7-43CA-A507-9157FB7A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946-C81B-4870-90B4-09F6F6D0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86D-57AB-44AD-866E-FF927D8F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01B-9D6F-4498-B0EA-3A128A7F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7E3-A924-4E17-8DF8-C2DD386F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E0ED-0F79-45F0-B744-12976AFEAE16}" type="slidenum">
              <a:rPr b="0" lang="en-N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728E-C6D3-424B-8D9C-43A8D83CB587}" type="slidenum">
              <a:rPr b="0" lang="en-N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Heart Attack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 View from the Industr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ter Mart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DU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lington, 1 November 200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hallenge for the Indust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orporate an understanding of the new ways of diagnosis and treatment into policy defini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tions for the Indust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y with old defini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aims experience will not chan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me people with genuine heart attacks will be declin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motional material will need chan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tions for the Indust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y with old defini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aims experience will not chan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me people with genuine heart attacks will be declin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motional material will need chan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den Defini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rger number of clai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tuarial implic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motional material may still need to be revi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ing Nothing is Not an O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y with restrictive  defini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plicit descrip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den defini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larged clai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ill need for careful descrip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85800" y="2971800"/>
            <a:ext cx="17798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udent Day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art attack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re p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ten shock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jor ECG chan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zymes raised after d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7680" y="295128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udent Day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 weeks in b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ticoagula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016000" y="3422520"/>
            <a:ext cx="9194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nges in 40 Yea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nges in 40 Yea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sser ECG changes or no chan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w enzymes which are more specific and rise earli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w diagnostic techniqu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nges in 40 Yea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sser ECG changes or no chan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w enzymes which are more specific and rise earli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w diagnostic techniqu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drest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ticoagulants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w interventional techniqu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w drug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Insurance Indust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is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itical Illn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jor Health Proble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include “Heart Attack” as an insured ris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Insurance Indust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ften using definitions of heart attack which are based on old concepts and old diagnostic tes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Insurance Indust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ften using definitions of heart attack which are based on old concepts and old diagnostic tes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st pa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jor ECG chan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ften old, rarely used enzym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21:53:56Z</dcterms:created>
  <dc:creator> </dc:creator>
  <dc:description/>
  <dc:language>en-US</dc:language>
  <cp:lastModifiedBy> </cp:lastModifiedBy>
  <dcterms:modified xsi:type="dcterms:W3CDTF">2005-10-04T22:35:47Z</dcterms:modified>
  <cp:revision>10</cp:revision>
  <dc:subject/>
  <dc:title>Heart Attack A View from the Industry</dc:title>
</cp:coreProperties>
</file>