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1F2-2AE3-46C6-9B9D-1C67A64F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A7D-A3B6-4516-9F0C-AC077B9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F8E-AF2A-40C5-880A-6D7CDCF8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CE5-39E5-4070-8BB4-A6AF9E62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EF81-F61B-4911-A2C6-28AC7BF3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19C2-34C7-46A4-97EB-61ECED3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068-68E2-43A9-B835-3CC1C3FB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1EFC-2DED-4810-B5B4-CA169FBD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21B0-7C5A-4043-82D1-27E95029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E47-5CD1-4739-B304-4D6B58E4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41C6-B2FB-46B6-A4FF-2207305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4A9-FE1B-4B5F-AEC4-01379652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670C-FF55-4B9A-B5D1-F4E8F11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1E6F-0997-494B-A29F-F65D3B4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732-91D5-4B9B-93D9-5E0692E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4D6-75C4-4D1C-A47B-05521AFD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B2A-CDC6-412F-9628-4D98539A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E67-6E19-42DA-9B97-822645F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FC4-D63E-4525-B57C-914EEDE0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7BE-B0EA-4EF7-B808-5AB5EAA9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A6B-4C10-4248-B49E-AEF545A0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3BE-2EB9-4F68-99CA-7C6F41E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5BE-2B7B-4986-BFCA-96C9686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DF1-306F-4BC8-AF8D-F46D1C6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488E-F6C9-490B-A70C-991006C18095}" type="slidenum">
              <a:rPr b="0" lang="en-N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2F2A-51E4-4FDD-B073-22A02F338922}" type="slidenum">
              <a:rPr b="0" lang="en-N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eart Attack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View from the Indust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ter Mart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DU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lington, 1 November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hallenge for th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orporate an understanding of the new ways of diagnosis and treatment into policy defini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for th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with old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ims experience will not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people with genuine heart attacks will be decli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tional material will need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for th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with old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ims experience will not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people with genuine heart attacks will be decli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tional material will need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den Defin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r number of clai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uarial im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motional material may still need to be revi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ing Nothing is Not an O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with restrictive 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icit descri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den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larged clai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l need for careful descri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85800" y="2971800"/>
            <a:ext cx="17798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udent Da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rt attac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e p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ten shock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or ECG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zymes raised after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7680" y="295128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udent Da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 weeks in 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icoagula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16000" y="342252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4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4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er ECG changes or no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enzymes which are more specific and rise ear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diagnostic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40 Ye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er ECG changes or no 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enzymes which are more specific and rise ear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diagnostic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drest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icoagulants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interventional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dru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nsuranc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i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itical Ill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Health Probl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include “Heart Attack” as an insured ris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nsuranc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using definitions of heart attack which are based on old concepts and old diagnostic t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Insurance Indus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using definitions of heart attack which are based on old concepts and old diagnostic t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st 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jor ECG 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ten old, rarely used enzy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1:53:56Z</dcterms:created>
  <dc:creator> </dc:creator>
  <dc:description/>
  <dc:language>en-US</dc:language>
  <cp:lastModifiedBy> </cp:lastModifiedBy>
  <dcterms:modified xsi:type="dcterms:W3CDTF">2005-10-04T22:35:47Z</dcterms:modified>
  <cp:revision>10</cp:revision>
  <dc:subject/>
  <dc:title>Heart Attack A View from the Industry</dc:title>
</cp:coreProperties>
</file>