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F7C2-5BA7-45D4-92DB-35E24A45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244B-0E27-410A-9477-67776FDD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3C1D-F431-4B4C-BD6D-B48FD78D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029E-40E1-4FD4-9413-FAFA2856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452E-4961-4150-A5C8-DBAAC5EC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502E-A7F7-4E63-AF57-A2EBB764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C01F-2FC3-45E4-A7D6-EDD1B0AF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A6D3-AE48-42AA-B270-776C5A56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880A-792A-4247-BE5F-2383C973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C679-12B5-46B3-8F52-4B99AE38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F589-AA9E-4DF4-85A2-0BB503AD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F267-BC6E-4C93-91D5-0A3351E1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AC88-8889-44B5-A11F-9A8232FD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0DFA-D3A0-4BD9-A7B0-D8D6F94F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34F1-24DF-4C13-BD45-83517640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BB35-2D03-465F-8148-862A680C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0E9A-5F5A-4D2D-BA9D-18722475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2744-B99A-4F3D-8B6F-E259C56B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3C21-D831-4F56-8ED6-504B3F8E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702-BC82-4EAE-838D-B3C2DF81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DE41-AD9C-4DF4-9443-B0FBCB4E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3E77-5FCB-4B66-AED3-DD5BED6A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3864-3704-4347-B5DD-8BBC810C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C54-F6A6-476E-9E3B-76B7E84A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5F7B-95F8-4B33-BA80-AF293AD77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F76E-CC26-41F9-86E8-87838A36A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a26d18"/>
                </a:solidFill>
                <a:latin typeface="Times New Roman"/>
              </a:rPr>
              <a:t>Myocardial infarction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New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New 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New definitions of MI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onsensus document published in April 2000 by the American College of Cardiology and the European Society of Card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riteria for acute, evolving or recent 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riteria for established 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Acute, evolving or recent MI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Typical rise and fall of biochemical markers of myocardial necrosis, CK-MB or Troponin </a:t>
            </a: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associated with at least </a:t>
            </a: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e</a:t>
            </a: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 of the following</a:t>
            </a: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cc6600"/>
                </a:solidFill>
                <a:latin typeface="Times New Roman"/>
              </a:rPr>
              <a:t>ischaemic symptoms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66ff"/>
                </a:solidFill>
                <a:latin typeface="Times New Roman"/>
              </a:rPr>
              <a:t>new pathological Q waves</a:t>
            </a:r>
            <a:r>
              <a:rPr b="0" lang="en-NZ" sz="3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66ff"/>
                </a:solidFill>
                <a:latin typeface="Times New Roman"/>
              </a:rPr>
              <a:t>ECG changes indicative of ischaemia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6600"/>
                </a:solidFill>
                <a:latin typeface="Times New Roman"/>
              </a:rPr>
              <a:t>coronary artery intervention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Pathological findings of an acute 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Established MI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Development of new pathological Q waves in serial ECGs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Pathologic findings of a healed or healing MI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Cardiac biomarker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K-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Troponin T (or 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Total CK, LDH and ASAT all inva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CK-MB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Improved sensitivity over earlier enzyme esti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All enzyme measurements have a background level of ‘noise’  -  ie. normal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444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444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444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CK-MB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Improved sensitivity over earlier enzyme esti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All enzyme measurement have a background level of ‘noise’  -  ie. normal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NZ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detected 2 - 3hrs post MI, and elevation persists for 1 - 2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Troponin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= a protein (not an enzy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Troponin T and I (cardiac troponins) are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detectable in the blood of healthy su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Reliable lab test for T ;   not for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NZ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detectable 3 – 4 hrs post MI, and persists for 7 – 14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Troponin T elevated (ie detectable) in conditions other than acute infar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Coronary Disease presentation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Ang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yocardial infar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udden cardiac d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a26d18"/>
                </a:solidFill>
                <a:latin typeface="Times New Roman"/>
              </a:rPr>
              <a:t>Secondary ischaemic cardiac injury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Coronary inter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Coronary artery sp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Coronary artery embo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Coronary artery inflam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Coronary artery dis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Direct coronary artery tra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Sympathomime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Pulmonary embo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End-stage re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Rhythm disturb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Acute heart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Extreme endurance exerc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Non-ischaemic cardiac injury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yocarditis – multiple c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ardiac trauma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ardiac surg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etabolic / toxic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renal 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Clinical feature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pontaneous ischaemic episode, usually lasting &gt; 20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oronary artery intervention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angiography, angioplasty, sten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a26d18"/>
                </a:solidFill>
                <a:latin typeface="Times New Roman"/>
              </a:rPr>
              <a:t>ECG features of myocardial ischaemia that may </a:t>
            </a:r>
            <a:r>
              <a:rPr b="1" lang="en-NZ" sz="4000" spc="-1" strike="noStrike">
                <a:solidFill>
                  <a:srgbClr val="a26d18"/>
                </a:solidFill>
                <a:latin typeface="Symbol"/>
                <a:ea typeface="Symbol"/>
              </a:rPr>
              <a:t></a:t>
            </a:r>
            <a:r>
              <a:rPr b="1" lang="en-NZ" sz="40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en-NZ" sz="4000" spc="-1" strike="noStrike">
                <a:solidFill>
                  <a:srgbClr val="a26d18"/>
                </a:solidFill>
                <a:latin typeface="Times New Roman"/>
                <a:ea typeface="Times New Roman"/>
              </a:rPr>
              <a:t>MI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New ST elevation in at least two contiguous leads, measuring &gt;= 0.2mV in leads V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, or &gt;= 0.1mV in all other leads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= ST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Absence of ST elevation, but with either ST depression or T wave abnormalities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= NST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ECG features of established MI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In absence of confounders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(LBBB, LVH, and WPW syndrome)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any  Q wave in V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or  Q waves of &gt;= 1mm for &gt;= 30m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in two other contiguous leads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048120" y="884160"/>
            <a:ext cx="3124080" cy="2041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219320" y="3710160"/>
            <a:ext cx="2361960" cy="2172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838080" y="5943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ological Q 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952880" y="3714840"/>
            <a:ext cx="2895840" cy="2160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80880" y="197316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Q 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380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E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3124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 ele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31240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 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2285640" y="510552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257440" y="350532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599840" y="3581280"/>
            <a:ext cx="152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514600" y="2209680"/>
            <a:ext cx="762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1295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ST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714640" y="16765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pathology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6 hours elapse before myocardial necrosis becomes evident on histopath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Three phases – acute / healing / hea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ize – microscopic / small / medium /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imaging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Echocardi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Radionuclide angi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ingle-photo emission computed tomography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= SP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a26d18"/>
                </a:solidFill>
                <a:latin typeface="Times New Roman"/>
              </a:rPr>
              <a:t>Key points in the new definitions of myocardial infarction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Any myocardial necrosis constitutes an infar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Infarctions other than ‘spontaneous’ are inclu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a26d18"/>
                </a:solidFill>
                <a:latin typeface="Times New Roman"/>
              </a:rPr>
              <a:t>Specific clinical situations </a:t>
            </a:r>
            <a:br>
              <a:rPr sz="4000"/>
            </a:br>
            <a:r>
              <a:rPr b="1" lang="en-NZ" sz="4000" spc="-1" strike="noStrike">
                <a:solidFill>
                  <a:srgbClr val="a26d18"/>
                </a:solidFill>
                <a:latin typeface="Times New Roman"/>
              </a:rPr>
              <a:t>not yet defined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I post-CABG, based on post-operative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K-MB or troponin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Threatened and aborted infar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ilent infar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udden ischaemic cardiac d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Coronary Disease presentation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Angina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un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yocardial infar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udden cardiac d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924360" y="1461960"/>
            <a:ext cx="129528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95280" y="1371600"/>
            <a:ext cx="6477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ocardial Infarction Redefined - A Consensus Document of the Joint European Society of Cardiology / American College of Cardiology Committee for the Redefinition of Myocardial Infar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 of the American College of Card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:959-969  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Coronary Disease presentation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Angina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un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yocardial infarction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‘full-thickness’, ‘transmural’, Q-wave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‘partial-thickness’, subendocardial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udden cardiac d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Coronary Disease presentation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Angina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un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yocardial infarction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TEMI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NST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udden cardiac d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Acute Coronary Syndrom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1628640"/>
            <a:ext cx="3168720" cy="863640"/>
          </a:xfrm>
          <a:prstGeom prst="rect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2920" y="184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No ST Ele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27640" y="1628640"/>
            <a:ext cx="3097080" cy="863640"/>
          </a:xfrm>
          <a:prstGeom prst="rect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1844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T Ele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3573360"/>
            <a:ext cx="1800360" cy="719280"/>
          </a:xfrm>
          <a:prstGeom prst="rect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Unstable An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3573360"/>
            <a:ext cx="1800000" cy="719280"/>
          </a:xfrm>
          <a:prstGeom prst="rect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48000" y="3716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NQ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35640" y="3573360"/>
            <a:ext cx="1728720" cy="719280"/>
          </a:xfrm>
          <a:prstGeom prst="rect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24360" y="3716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Q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19280" y="2492280"/>
            <a:ext cx="360360" cy="1152720"/>
          </a:xfrm>
          <a:prstGeom prst="downArrow">
            <a:avLst>
              <a:gd name="adj1" fmla="val 50000"/>
              <a:gd name="adj2" fmla="val 79970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2492280"/>
            <a:ext cx="360360" cy="1152720"/>
          </a:xfrm>
          <a:prstGeom prst="downArrow">
            <a:avLst>
              <a:gd name="adj1" fmla="val 50000"/>
              <a:gd name="adj2" fmla="val 79970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48000" y="2492280"/>
            <a:ext cx="360360" cy="1152720"/>
          </a:xfrm>
          <a:prstGeom prst="downArrow">
            <a:avLst>
              <a:gd name="adj1" fmla="val 50000"/>
              <a:gd name="adj2" fmla="val 79970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2492280"/>
            <a:ext cx="17272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571640" y="2492280"/>
            <a:ext cx="10796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114300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11430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1280" y="876240"/>
            <a:ext cx="7848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022400"/>
            <a:ext cx="868680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a26d18"/>
                </a:solidFill>
                <a:latin typeface="Times New Roman"/>
              </a:rPr>
              <a:t>Traditional definition of MI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ymptoms of myocardial isch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Elevation of cardiac ‘enzymes’ in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Typical ECG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23:26:01Z</dcterms:created>
  <dc:creator>Ron Easthope</dc:creator>
  <dc:description/>
  <dc:language>en-US</dc:language>
  <cp:lastModifiedBy>EBS</cp:lastModifiedBy>
  <dcterms:modified xsi:type="dcterms:W3CDTF">2004-07-22T21:15:01Z</dcterms:modified>
  <cp:revision>20</cp:revision>
  <dc:subject/>
  <dc:title>Myocardial infarction</dc:title>
</cp:coreProperties>
</file>