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AAFF-AF9A-427C-9019-D9374B95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2EDE-2EB2-4569-9DFF-9784747A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1B2-5898-4B0B-9E74-EFFF6C22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113-773D-44A3-9675-07AB49AE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B56E-0FDD-4A45-8AF5-8F0AECBA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607F-3C93-4496-810B-43B11C7A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4214-8C55-47A5-8884-2FE510AC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6807-7393-441A-B7DD-50181757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08CF-DE56-4685-B9D6-6D718E58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2723-C81C-4995-9BBE-A4C71783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8C28-CAB8-4D9C-A4B2-2EF65899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1AA4-55EC-4A67-91E7-6F719B4F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D802-912A-44CA-8266-A9B1D10D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F6AF-6905-4831-94E6-AF48CF09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B550-5353-4BFD-B952-B6DFB3B4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E3B8-DD47-4A52-A00B-5E335F5E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8A1D-B659-4F96-B0AF-55E09E06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1AD1-5990-4F58-AE39-8FDB910A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550-C0B4-4E2B-A9D6-0DD534F4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8A2-9487-4B60-9353-0FA8E73C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38A7-3B7E-41DA-A2D1-890B0468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A0D-2D12-40A4-A0F6-CDF85944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BFB-CCBE-45C2-B181-02A265FF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0AEE-10BB-4D9B-8073-C0087B17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F759-4BF1-468F-A558-C80D23ACB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041E-B877-46C9-9B91-B70AD479E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a26d18"/>
                </a:solidFill>
                <a:latin typeface="Times New Roman"/>
              </a:rPr>
              <a:t>Myocardial infarction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New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New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New definitions of MI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onsensus document published in April 2000 by the American College of Cardiology and the European Society of Card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riteria for acute, evolving or recent 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riteria for established 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Acute, evolving or recent MI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Typical rise and fall of biochemical markers of myocardial necrosis, CK-MB or Troponin </a:t>
            </a: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associated with at least </a:t>
            </a: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</a:t>
            </a: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 of the following</a:t>
            </a: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cc6600"/>
                </a:solidFill>
                <a:latin typeface="Times New Roman"/>
              </a:rPr>
              <a:t>ischaemic symptoms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66ff"/>
                </a:solidFill>
                <a:latin typeface="Times New Roman"/>
              </a:rPr>
              <a:t>new pathological Q waves</a:t>
            </a:r>
            <a:r>
              <a:rPr b="0" lang="en-NZ" sz="3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66ff"/>
                </a:solidFill>
                <a:latin typeface="Times New Roman"/>
              </a:rPr>
              <a:t>ECG changes indicative of ischaemia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6600"/>
                </a:solidFill>
                <a:latin typeface="Times New Roman"/>
              </a:rPr>
              <a:t>coronary artery intervention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Pathological findings of an acute 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Established MI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Development of new pathological Q waves in serial ECGs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Pathologic findings of a healed or healing MI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Cardiac biomarker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K-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Troponin T (or 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Total CK, LDH and ASAT all inva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CK-MB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Improved sensitivity over earlier enzyme esti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ll enzyme measurements have a background level of ‘noise’  -  ie. normal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444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444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444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CK-MB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Improved sensitivity over earlier enzyme esti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ll enzyme measurement have a background level of ‘noise’  -  ie. normal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NZ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detected 2 - 3hrs post MI, and elevation persists for 1 - 2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Troponin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= a protein (not an enzy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Troponin T and I (cardiac troponins) ar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detectable in the blood of healthy su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Reliable lab test for T ;   not for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NZ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detectable 3 – 4 hrs post MI, and persists for 7 – 14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Troponin T elevated (ie detectable) in conditions other than acute infar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Coronary Disease presentation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ng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yocardial infar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udden cardiac d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a26d18"/>
                </a:solidFill>
                <a:latin typeface="Times New Roman"/>
              </a:rPr>
              <a:t>Secondary ischaemic cardiac injury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Coronary inter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Coronary artery sp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Coronary artery embo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Coronary artery inflam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Coronary artery dis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Direct coronary artery tra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Sympathomime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Pulmonary embo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End-stage re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Rhythm disturb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Acute heart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Extreme endurance exerc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Non-ischaemic cardiac injury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yocarditis – multiple 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ardiac trauma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ardiac surg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etabolic / toxic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renal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Clinical feature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pontaneous ischaemic episode, usually lasting &gt; 20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oronary artery intervention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ngiography, angioplasty, sten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a26d18"/>
                </a:solidFill>
                <a:latin typeface="Times New Roman"/>
              </a:rPr>
              <a:t>ECG features of myocardial ischaemia that may </a:t>
            </a:r>
            <a:r>
              <a:rPr b="1" lang="en-NZ" sz="4000" spc="-1" strike="noStrike">
                <a:solidFill>
                  <a:srgbClr val="a26d18"/>
                </a:solidFill>
                <a:latin typeface="Symbol"/>
                <a:ea typeface="Symbol"/>
              </a:rPr>
              <a:t></a:t>
            </a:r>
            <a:r>
              <a:rPr b="1" lang="en-NZ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en-NZ" sz="4000" spc="-1" strike="noStrike">
                <a:solidFill>
                  <a:srgbClr val="a26d18"/>
                </a:solidFill>
                <a:latin typeface="Times New Roman"/>
                <a:ea typeface="Times New Roman"/>
              </a:rPr>
              <a:t>MI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New ST elevation in at least two contiguous leads, measuring &gt;= 0.2mV in leads V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, or &gt;= 0.1mV in all other leads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= ST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bsence of ST elevation, but with either ST depression or T wave abnormalities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= NST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ECG features of established MI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In absence of confounders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(LBBB, LVH, and WPW syndrome)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ny  Q wave in V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or  Q waves of &gt;= 1mm for &gt;= 30m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in two other contiguous leads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048120" y="884160"/>
            <a:ext cx="3124080" cy="2041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219320" y="3710160"/>
            <a:ext cx="2361960" cy="2172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38080" y="5943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ological Q 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952880" y="3714840"/>
            <a:ext cx="2895840" cy="2160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80880" y="197316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Q 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380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E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3124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 ele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3124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2285640" y="510552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257440" y="350532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599840" y="3581280"/>
            <a:ext cx="152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514600" y="220968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1295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ST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714640" y="16765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pathology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6 hours elapse before myocardial necrosis becomes evident on histopath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Three phases – acute / healing / hea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ize – microscopic / small / medium /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imaging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Echocardi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Radionuclide angi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ingle-photo emission computed tomography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= SP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a26d18"/>
                </a:solidFill>
                <a:latin typeface="Times New Roman"/>
              </a:rPr>
              <a:t>Key points in the new definitions of myocardial infarction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ny myocardial necrosis constitutes an infar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Infarctions other than ‘spontaneous’ are inclu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a26d18"/>
                </a:solidFill>
                <a:latin typeface="Times New Roman"/>
              </a:rPr>
              <a:t>Specific clinical situations </a:t>
            </a:r>
            <a:br>
              <a:rPr sz="4000"/>
            </a:br>
            <a:r>
              <a:rPr b="1" lang="en-NZ" sz="4000" spc="-1" strike="noStrike">
                <a:solidFill>
                  <a:srgbClr val="a26d18"/>
                </a:solidFill>
                <a:latin typeface="Times New Roman"/>
              </a:rPr>
              <a:t>not yet defined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I post-CABG, based on post-operative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K-MB or troponi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Threatened and aborted infar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ilent infar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udden ischaemic cardiac d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Coronary Disease presentation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ngina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un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yocardial infar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udden cardiac d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924360" y="1461960"/>
            <a:ext cx="12952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95280" y="1371600"/>
            <a:ext cx="6477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ocardial Infarction Redefined - A Consensus Document of the Joint European Society of Cardiology / American College of Cardiology Committee for the Redefinition of Myocardial Infar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 of the American College of Card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:959-969  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Coronary Disease presentation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ngina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un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yocardial infarction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‘full-thickness’, ‘transmural’, Q-wave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‘partial-thickness’, subendocardial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udden cardiac d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Coronary Disease presentation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ngina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un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yocardial infarction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TEMI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NST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udden cardiac d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Acute Coronary Syndrom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1628640"/>
            <a:ext cx="3168720" cy="86364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184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No ST Ele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27640" y="1628640"/>
            <a:ext cx="3097080" cy="86364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1844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T Ele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3573360"/>
            <a:ext cx="1800360" cy="71928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Unstable An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3573360"/>
            <a:ext cx="1800000" cy="71928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8000" y="3716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NQ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35640" y="3573360"/>
            <a:ext cx="1728720" cy="71928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24360" y="3716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Q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19280" y="2492280"/>
            <a:ext cx="360360" cy="1152720"/>
          </a:xfrm>
          <a:prstGeom prst="downArrow">
            <a:avLst>
              <a:gd name="adj1" fmla="val 50000"/>
              <a:gd name="adj2" fmla="val 79970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2492280"/>
            <a:ext cx="360360" cy="1152720"/>
          </a:xfrm>
          <a:prstGeom prst="downArrow">
            <a:avLst>
              <a:gd name="adj1" fmla="val 50000"/>
              <a:gd name="adj2" fmla="val 79970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48000" y="2492280"/>
            <a:ext cx="360360" cy="1152720"/>
          </a:xfrm>
          <a:prstGeom prst="downArrow">
            <a:avLst>
              <a:gd name="adj1" fmla="val 50000"/>
              <a:gd name="adj2" fmla="val 79970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2492280"/>
            <a:ext cx="17272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571640" y="2492280"/>
            <a:ext cx="10796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114300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11430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1280" y="876240"/>
            <a:ext cx="7848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022400"/>
            <a:ext cx="868680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Traditional definition of MI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ymptoms of myocardial isch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Elevation of cardiac ‘enzymes’ in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Typical ECG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23:26:01Z</dcterms:created>
  <dc:creator>Ron Easthope</dc:creator>
  <dc:description/>
  <dc:language>en-US</dc:language>
  <cp:lastModifiedBy>EBS</cp:lastModifiedBy>
  <dcterms:modified xsi:type="dcterms:W3CDTF">2004-07-22T21:15:01Z</dcterms:modified>
  <cp:revision>20</cp:revision>
  <dc:subject/>
  <dc:title>Myocardial infarction</dc:title>
</cp:coreProperties>
</file>