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move the slide</a:t>
            </a:r>
            <a:endParaRPr b="0" lang="en-US" sz="3000" spc="-1" strike="noStrike">
              <a:solidFill>
                <a:srgbClr val="4e3b30"/>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C03E-CEB6-41B9-A23F-CE4A9F3A18E3}"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1877-E5F2-4627-9DAB-2FBA3A49A873}"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602B-C798-46C2-913A-3486EECB9053}"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6897-82BD-49DF-B6CF-A03E950879BE}"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7C8A-C004-48F5-B316-1848911441EC}"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03B2-01CE-4E2E-9730-DE8A74240776}"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7699-C4B7-4FDC-B9A1-5A97BED765EB}"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4F53-A9FC-4A8D-B932-F099E5A982FA}" type="slidenum">
              <a:rPr b="0" lang="en-NZ"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5FD5F-6EB8-4E7F-83CF-4CBCE1846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F71D-588D-49A5-9D67-4CB0A06ED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DAF50-838B-42E4-AAD1-B64E842A5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413E-B91B-4981-A7A5-FCFCD4DF1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E4781-C087-47F0-9914-BC5D866EB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D73C7-83CB-4AB2-85BA-C051327AB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63FA-9E0B-4AED-81DE-FB55DFB9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225AD-F5CF-41F0-A7C7-AFA070EDD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66FC-1E27-4442-9D36-9DA52069B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C6C47-ADD8-4247-971E-18177C4A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C2DB4-5FE1-45C8-AE82-3F153A24F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B18A-6B4F-444F-83D6-32BCE403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6E79-B24F-4D08-8B08-A8CB7B6D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5CBB8-3665-4430-A8A5-3F747592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57251-A397-4CE7-8575-2859EF206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94B25-B00D-444B-865A-B260B3373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3048D-2329-41D8-8DFF-D7BF022CE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14FF1A-9A0D-4685-BAC2-6785B74D9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B79C47-0252-44B3-9625-B77B97D5B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714321-FE40-425F-BF1E-A685FD15F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A9CF3E-39EA-44B2-82DD-39F96895E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E66F62-8192-4EAC-A800-378F29058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569F-B256-4854-9179-78FC4B2C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D9FCFB-4FA2-4EA1-B73F-4E8F4074D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9823B6-DC27-4DAF-BB4A-F7A483922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7FE8E3-E8E2-4C06-A53A-5651C0DE7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6E1ABF-7F9D-4BAE-A3F2-0D7654BE4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8FA9E9-369C-4DD4-AD6F-813502DAE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845232-450A-4C50-9478-98869F2F33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6319DE-093A-4E71-9461-82FF75788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6AF4D-BA7E-4A6F-93AC-6325E8566B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3A617-E43E-4976-8646-E4174FC09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9576E-E94C-4027-BEEF-5ACA1649C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CC0F-78DC-42E4-BA7A-72906E4F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14295-2978-4436-B5E7-52127D1AE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F1EC4-1B63-4235-A854-2BAE39736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D07D3-2D48-496F-AA6F-5D9A90115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410ED-EAFD-47AB-AC63-5AD1B752F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130B8-0CE5-438C-B876-9B282D583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1AAA2-A2F3-4D59-86C4-1EC806FCD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301BC-59DE-43BB-BF68-020D71A70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440E2-646B-4438-853D-45A2433C72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DE3AF-27A5-487E-A0CC-F3840BFC5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632566-64DA-4E3E-9417-11942AC4B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5EB4-8771-4122-BFAF-9DD326F6B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DE694F-E37A-4469-A1E9-3C049ACF0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A924E8-1BDD-4B2E-95D7-ADF6438A2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F2DEDD-75B9-454A-AC8C-60924BBEE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A4F109-1974-47CB-8614-5EDC8773B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CFDC17-B32D-4AB0-91CD-149274602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2EA620-DE35-41DC-B7B8-D4AD99794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C561C5-4F93-450A-898E-36AC3A9E3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539278-D329-4752-8496-652295A95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34270B-0373-448D-8523-3F3526FCF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1E9A0F-D59C-4226-A535-1DE0BE3A79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16A60-FBBD-4ACE-9403-F90B77D8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B47D38D-37E5-45BF-8730-1FA5213BB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14BC66C-2B52-4380-81EB-D684B40C5B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DEDA8D-7491-4242-8E06-1B2764A9D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B5DDE4C-ADEE-434E-87F0-227746ED6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5FBC56-65A4-4DFA-88D1-639BA8536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D1AAF3-8F22-4D42-8ADE-9F7E68D13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72FA4F-C2EC-4022-B8A5-85E2D79F3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A6F608-501B-4C4C-AB04-D97A10739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C58BC5-AFE3-43E1-897E-1CB7D14E2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81E12E-5350-4A3C-9995-309D0B3BD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94C4-ED19-437A-BFFA-343EDF0D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22B4BD7-9107-41A6-AEDC-D767F0DB0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7819AF6-4C4F-4096-AE8E-47CBD3984F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0F1E8E0-F9F6-4EDB-ABF5-E690BC6B50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803898D-7632-4D62-BE31-ECDBBC67BB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AA98D3-B966-4887-BB17-4830E1A95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219688-43AA-4AFC-8AA1-13805B10D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811637-AA98-4D9B-8416-4CBB1B478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FFF397-054D-45B7-A84B-16BCB3D53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93921C-4E2D-4AE7-8504-D8EA87537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846DA9-506E-4A34-971C-62C0509E7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4533-09F2-41C1-B576-30E4A0C0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5E191F-CF3C-4357-B754-63CE80776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886DF5-CFD2-4E9B-A265-1790CB71B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356884-44FC-4AE5-A065-93441D6F9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BF2A889-B761-431F-B85F-1870030E3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44FAE5D-5049-4023-8BAE-8BDB1F1A19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8025-E4B0-4334-A7D5-B084E24A4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7DE1-5189-4700-AB8E-172CDD1469C8}"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6cead">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9e0cd">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9e0c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cf0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6cead">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cf0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6cead">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6cead">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ABB6-CED0-4566-A973-E5419E4C7189}"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0EEC-D004-428B-8346-DB3497022EF0}"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6cead">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9e0cd">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9e0c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cf0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6cead">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cf0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6cead">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6cead">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eec9"/>
                </a:solidFill>
                <a:latin typeface="Century Schoolbook"/>
              </a:rPr>
              <a:t>Click to edit the title text format</a:t>
            </a:r>
            <a:endParaRPr b="0" lang="en-US" sz="3000" spc="-1" strike="noStrike">
              <a:solidFill>
                <a:srgbClr val="fbeec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eec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23C1-96C6-4F80-B4C7-A56E6197FF2D}"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70F3-E5E6-4581-BA10-390F79693F72}"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6cead">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6cead">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5F01-5836-48FC-8CDE-142B2447BC15}"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6ce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Century Schoolbook"/>
              </a:rPr>
              <a:t>Click to edit the title text format</a:t>
            </a:r>
            <a:endParaRPr b="0" lang="en-US" sz="3000" spc="-1" strike="noStrike">
              <a:solidFill>
                <a:srgbClr val="4e3b30"/>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8e2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fb8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3b3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3b30"/>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873A-AFA6-4B7E-A8BB-E9F2EBCB0370}" type="slidenum">
              <a:rPr b="1" lang="en-NZ"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142720" y="356760"/>
            <a:ext cx="6172200" cy="335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r>
              <a:rPr b="1" lang="en-NZ" sz="2700" spc="-1" strike="noStrike">
                <a:solidFill>
                  <a:srgbClr val="4e3b30"/>
                </a:solidFill>
                <a:latin typeface="Century Schoolbook"/>
              </a:rPr>
              <a:t>MICHELLE AYRES</a:t>
            </a:r>
            <a:br>
              <a:rPr sz="2700"/>
            </a:br>
            <a:r>
              <a:rPr b="1" lang="en-NZ" sz="2700" spc="-1" strike="noStrike">
                <a:solidFill>
                  <a:srgbClr val="4e3b30"/>
                </a:solidFill>
                <a:latin typeface="Century Schoolbook"/>
              </a:rPr>
              <a:t>OCCUPATIONAL THERAPIST</a:t>
            </a:r>
            <a:br>
              <a:rPr sz="2700"/>
            </a:br>
            <a:br>
              <a:rPr sz="2700"/>
            </a:br>
            <a:br>
              <a:rPr sz="2700"/>
            </a:br>
            <a:r>
              <a:rPr b="1" lang="en-NZ" sz="2700" spc="-1" strike="noStrike">
                <a:solidFill>
                  <a:srgbClr val="4e3b30"/>
                </a:solidFill>
                <a:latin typeface="Century Schoolbook"/>
              </a:rPr>
              <a:t>TRACEY BARNFIELD</a:t>
            </a:r>
            <a:br>
              <a:rPr sz="2700"/>
            </a:br>
            <a:r>
              <a:rPr b="1" lang="en-NZ" sz="2700" spc="-1" strike="noStrike">
                <a:solidFill>
                  <a:srgbClr val="4e3b30"/>
                </a:solidFill>
                <a:latin typeface="Century Schoolbook"/>
              </a:rPr>
              <a:t>REGISTERED CLINICAL PSYCHOLOGIST</a:t>
            </a:r>
            <a:endParaRPr b="0" lang="en-US" sz="2700" spc="-1" strike="noStrike">
              <a:solidFill>
                <a:srgbClr val="4e3b30"/>
              </a:solidFill>
              <a:latin typeface="Century Schoolbook"/>
            </a:endParaRPr>
          </a:p>
        </p:txBody>
      </p:sp>
      <p:sp>
        <p:nvSpPr>
          <p:cNvPr id="359" name="PlaceHolder 2"/>
          <p:cNvSpPr>
            <a:spLocks noGrp="1"/>
          </p:cNvSpPr>
          <p:nvPr>
            <p:ph type="subTitle"/>
          </p:nvPr>
        </p:nvSpPr>
        <p:spPr>
          <a:xfrm>
            <a:off x="722160" y="4142880"/>
            <a:ext cx="7772400" cy="1428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4e3b30"/>
                </a:solidFill>
                <a:latin typeface="Century Schoolbook"/>
              </a:rPr>
              <a:t>The Role of Clinical Psychologists and Occupational Therapists in the Vocational Rehabilitation Proces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WORKSITE ASSESSMENT</a:t>
            </a:r>
            <a:endParaRPr b="0" lang="en-US" sz="3000" spc="-1" strike="noStrike">
              <a:solidFill>
                <a:srgbClr val="4e3b30"/>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etailed on site assessment outlining:</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lients illness details</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edical &amp; psychosocial details</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urrent symptoms &amp; functional limitations and how these impact on their ability to maintain their engagement in work or return to work</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he clients work situation – position, purpose of their position, hours, tenure, environment, work tasks and task demands</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lients strengths and resources</a:t>
            </a:r>
            <a:endParaRPr b="0" lang="en-US" sz="2400" spc="-1" strike="noStrike">
              <a:solidFill>
                <a:srgbClr val="000000"/>
              </a:solidFill>
              <a:latin typeface="Century Schoolbook"/>
            </a:endParaRPr>
          </a:p>
          <a:p>
            <a:pPr lvl="2" marL="914400" indent="-182520">
              <a:lnSpc>
                <a:spcPct val="90000"/>
              </a:lnSpc>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Limitations and barriers to return to work</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WORKSITE ASSESSMENT</a:t>
            </a:r>
            <a:endParaRPr b="0" lang="en-US" sz="3000" spc="-1" strike="noStrike">
              <a:solidFill>
                <a:srgbClr val="4e3b30"/>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lIns="90000" rIns="90000" tIns="46800" bIns="46800" anchor="t">
            <a:normAutofit/>
          </a:bodyPr>
          <a:p>
            <a:pPr lvl="2" marL="914400" indent="-182520">
              <a:spcBef>
                <a:spcPts val="601"/>
              </a:spcBef>
              <a:buClr>
                <a:srgbClr val="d38e2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ptions to address barriers and recommendations</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odifications to work tasks and hours, graduated return to work programme and weekly monitoring</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rescription of equipment or environmental adaptations</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upport needs and requirements</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Functional Capacity Evaluation</a:t>
            </a:r>
            <a:endParaRPr b="0" lang="en-US" sz="2400" spc="-1" strike="noStrike">
              <a:solidFill>
                <a:srgbClr val="000000"/>
              </a:solidFill>
              <a:latin typeface="Century Schoolbook"/>
            </a:endParaRPr>
          </a:p>
          <a:p>
            <a:pPr lvl="3" marL="1187280" indent="-182520">
              <a:spcBef>
                <a:spcPts val="60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ferrals to other health providers and servic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GRADUATED RETURN TO WORK PLANS</a:t>
            </a:r>
            <a:endParaRPr b="0" lang="en-US" sz="3000" spc="-1" strike="noStrike">
              <a:solidFill>
                <a:srgbClr val="4e3b30"/>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raduated Return to Work Plans</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Are developed in collaboration with the client and employer</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dentifies if alternate duties are available if the client is unable to return to their usual dutie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Outlines graduated hours increasing over a set period of time</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radually increases the demands of the work tasks, tolerances and fitnes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ssists to ensure safe, successful and sustainable return to work processes</a:t>
            </a: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WEEKLY MONITORING / FUNCTIONAL CAPACITY EVALUATIONS</a:t>
            </a:r>
            <a:endParaRPr b="0" lang="en-US" sz="3000" spc="-1" strike="noStrike">
              <a:solidFill>
                <a:srgbClr val="4e3b30"/>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eekly Monitoring</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Visit the client on site each week, liaise with the employer, review progress, adjust plan if necessar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Functional Capacity Evaluations</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dentifies what clients can do</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dentifies their capability to return to work</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Determines work tolerance and endurance</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Provides baselines measures for return to work plan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Assesses clients safety to return to their job or alternate positions</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4e3b30"/>
                </a:solidFill>
                <a:latin typeface="Century Schoolbook"/>
              </a:rPr>
              <a:t>ASSESSMENT, DEVELOPMENT &amp; IMPLEMENTATION OF REHABILITATION PLANS</a:t>
            </a:r>
            <a:endParaRPr b="0" lang="en-US" sz="2700" spc="-1" strike="noStrike">
              <a:solidFill>
                <a:srgbClr val="4e3b30"/>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Assesses client’s engagement in day to day activities, that looks specifically at how they move from their current de-conditioned state back into their usual work and life routines</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Gradually increases clients engagement in daily activities and demanding tasks that approximate their work day</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ssists clients to manage and improve their health, condition and symptoms, and social issues required for successful return to work outcomes</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ssists clients to maintain their attachment to their workplace, if they are off work</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Developed in conjunction with clinical psychologists and psychiatrists when there are mental health and brain injury diagnos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SOCIAL REHABILITATION</a:t>
            </a:r>
            <a:endParaRPr b="0" lang="en-US" sz="3000" spc="-1" strike="noStrike">
              <a:solidFill>
                <a:srgbClr val="4e3b30"/>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cial Rehabilitation is an assessment of :</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lients capacity to function in a number of areas </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ication of clients needs</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ication of options to meet these needs</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functional incapacity may impact on return to work process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SUPPORTING EARLY RETURN TO WORK</a:t>
            </a:r>
            <a:endParaRPr b="0" lang="en-US" sz="3000" spc="-1" strike="noStrike">
              <a:solidFill>
                <a:srgbClr val="4e3b30"/>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Being out of work is often associated with negative outcomes including:</a:t>
            </a:r>
            <a:endParaRPr b="0" lang="en-US" sz="24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Loss of work fitness and tolerance</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Loss of work related habits and daily routines</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Loss of motivation &amp; confidence</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Psychological distress, anxiety and depression</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Social exclusion – disengagement from workplace social relationships</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Loss of status and role as a worker</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Adoption of sick role</a:t>
            </a:r>
            <a:endParaRPr b="0" lang="en-US" sz="2200" spc="-1" strike="noStrike">
              <a:solidFill>
                <a:srgbClr val="000000"/>
              </a:solidFill>
              <a:latin typeface="Century Schoolbook"/>
            </a:endParaRPr>
          </a:p>
          <a:p>
            <a:pPr lvl="1" marL="639720" indent="-2728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Job security &amp; loss of pre illness or pre injury employment</a:t>
            </a:r>
            <a:endParaRPr b="0" lang="en-US" sz="22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SUPPORTING EARLY RETURN TO WORK</a:t>
            </a:r>
            <a:endParaRPr b="0" lang="en-US" sz="3000" spc="-1" strike="noStrike">
              <a:solidFill>
                <a:srgbClr val="4e3b30"/>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arlier return to work processes can assist to:</a:t>
            </a:r>
            <a:endParaRPr b="0" lang="en-US" sz="22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Schoolbook"/>
              </a:rPr>
              <a:t>Promote physical activity</a:t>
            </a:r>
            <a:endParaRPr b="0" lang="en-US" sz="20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Schoolbook"/>
              </a:rPr>
              <a:t>Improve functional capacity</a:t>
            </a:r>
            <a:endParaRPr b="0" lang="en-US" sz="20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duces risk of psychosocial issues and chronic pain </a:t>
            </a:r>
            <a:endParaRPr b="0" lang="en-US" sz="20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Schoolbook"/>
              </a:rPr>
              <a:t>Reduce recovery time</a:t>
            </a:r>
            <a:endParaRPr b="0" lang="en-US" sz="20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mprove long-term rehabilitation outcomes</a:t>
            </a:r>
            <a:endParaRPr b="0" lang="en-US" sz="2000" spc="-1" strike="noStrike">
              <a:solidFill>
                <a:srgbClr val="000000"/>
              </a:solidFill>
              <a:latin typeface="Century Schoolbook"/>
            </a:endParaRPr>
          </a:p>
          <a:p>
            <a:pPr lvl="1" marL="639720" indent="-2728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intain normal routine and lifestyle </a:t>
            </a:r>
            <a:endParaRPr b="0" lang="en-US" sz="2000" spc="-1" strike="noStrike">
              <a:solidFill>
                <a:srgbClr val="000000"/>
              </a:solidFill>
              <a:latin typeface="Century Schoolbook"/>
            </a:endParaRPr>
          </a:p>
          <a:p>
            <a:pPr lvl="1" marL="63972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It is important to provide appropriate treatment for clients with mental health disorders to address difficulties / barriers with sustaining and returning to work after an income protection claim</a:t>
            </a:r>
            <a:endParaRPr b="0" lang="en-US" sz="22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28400" y="28548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DISABILITY RATES</a:t>
            </a:r>
            <a:br>
              <a:rPr sz="3000"/>
            </a:br>
            <a:r>
              <a:rPr b="0" lang="en-NZ" sz="3000" spc="-1" strike="noStrike">
                <a:solidFill>
                  <a:srgbClr val="4e3b30"/>
                </a:solidFill>
                <a:latin typeface="Century Schoolbook"/>
              </a:rPr>
              <a:t>WORLD MENTAL HEALTH SURVEY</a:t>
            </a:r>
            <a:endParaRPr b="0" lang="en-US" sz="3000" spc="-1" strike="noStrike">
              <a:solidFill>
                <a:srgbClr val="4e3b30"/>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3 % of population reported days completely out of role in the last month due to mental health problems (WMH WHO-DA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7.8 – 8.2 % reported partial role impairment due to mental health problem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lobal Burden of Disease study calculated DALYs (disability adjusted life years) showing that psychiatric conditions account for more than 10% of the worldwide sum of DALY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ood disorders are associated with more role impairment than either substance use or anxiety disord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entury Schoolbook"/>
              </a:rPr>
              <a:t>TE RAU HINENGARO: </a:t>
            </a:r>
            <a:br>
              <a:rPr sz="2400"/>
            </a:br>
            <a:r>
              <a:rPr b="0" lang="en-US" sz="2400" spc="-1" strike="noStrike">
                <a:solidFill>
                  <a:srgbClr val="4e3b30"/>
                </a:solidFill>
                <a:latin typeface="Century Schoolbook"/>
              </a:rPr>
              <a:t>NZ MENTAL HEALTH SURVEY 2006</a:t>
            </a:r>
            <a:br>
              <a:rPr sz="2400"/>
            </a:br>
            <a:r>
              <a:rPr b="0" lang="en-US" sz="2400" spc="-1" strike="noStrike">
                <a:solidFill>
                  <a:srgbClr val="4e3b30"/>
                </a:solidFill>
                <a:latin typeface="Century Schoolbook"/>
              </a:rPr>
              <a:t>RATES OF MENTAL HEALTH DISORDERS</a:t>
            </a:r>
            <a:endParaRPr b="0" lang="en-US" sz="2400" spc="-1" strike="noStrike">
              <a:solidFill>
                <a:srgbClr val="4e3b30"/>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12 Month prevalence of any disorder</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29.5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Non-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19.3 %</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Prevalence of serious disorder</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8.7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Non-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4.1 %</a:t>
            </a:r>
            <a:endParaRPr b="0" lang="en-US" sz="22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Percent with a mental health visi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9.3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Non-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12.6 %</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12 month prevalence rate of any substance use disorder</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9.1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Non-Maori</a:t>
            </a: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6.0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TRACEY BARNFIELD</a:t>
            </a:r>
            <a:endParaRPr b="0" lang="en-US" sz="3000" spc="-1" strike="noStrike">
              <a:solidFill>
                <a:srgbClr val="4e3b30"/>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as an academic at the University of Otago</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I specialise in Cognitive Behaviour Therapy for anxiety and depression in particular </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pecial interest in assessing and treating psychological difficulties with comorbid medical condi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Neuropsychological assessment and rehabilitati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ork at the Massey Psychology Clinic in Wellingt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OMMON MENTAL HEALTH DISORDERS THAT COMPLICATE REHABILITATION</a:t>
            </a:r>
            <a:endParaRPr b="0" lang="en-US" sz="3000" spc="-1" strike="noStrike">
              <a:solidFill>
                <a:srgbClr val="4e3b30"/>
              </a:solidFill>
              <a:latin typeface="Century Schoolbook"/>
            </a:endParaRPr>
          </a:p>
        </p:txBody>
      </p:sp>
      <p:sp>
        <p:nvSpPr>
          <p:cNvPr id="397" name=""/>
          <p:cNvSpPr txBox="1"/>
          <p:nvPr/>
        </p:nvSpPr>
        <p:spPr>
          <a:xfrm>
            <a:off x="499680" y="150012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epression and other mood disorde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anic disorder with or without agoraphobia</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ost Traumatic Stress Disorder / Acute Stress Disorde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eneralised Anxiety Disorde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djustment Disorde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ubstance Use Disorde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leep Disorde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LESS COMMON</a:t>
            </a:r>
            <a:endParaRPr b="0" lang="en-US" sz="3000" spc="-1" strike="noStrike">
              <a:solidFill>
                <a:srgbClr val="4e3b30"/>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Bipolar Disorde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bsessive Compulsive Disorde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ocial Phobia</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omatoform Disorders </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Eating Disorde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ersonality Disorde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DEPRESSION</a:t>
            </a:r>
            <a:endParaRPr b="0" lang="en-US" sz="3000" spc="-1" strike="noStrike">
              <a:solidFill>
                <a:srgbClr val="4e3b30"/>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Predicted to be the 2</a:t>
            </a:r>
            <a:r>
              <a:rPr b="0" lang="en-AU" sz="2400" spc="-1" strike="noStrike" baseline="30000">
                <a:solidFill>
                  <a:srgbClr val="000000"/>
                </a:solidFill>
                <a:latin typeface="Century Schoolbook"/>
              </a:rPr>
              <a:t>nd</a:t>
            </a:r>
            <a:r>
              <a:rPr b="0" lang="en-AU" sz="2400" spc="-1" strike="noStrike">
                <a:solidFill>
                  <a:srgbClr val="000000"/>
                </a:solidFill>
                <a:latin typeface="Century Schoolbook"/>
              </a:rPr>
              <a:t> greatest burden on health by 2020</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e Rau Hinengaro: 7.9 % any mood disorder in past 12 months</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12 month rates for Major Depressive Disorder higher for females</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12 month rates for Dysthmyia and Bipolar Disorder equal for males and females</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Major Depressive Disorder most common diagnosis (12 month prevalence: 5.7%)</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Estimated that people with depression will have 4 lifetime episodes of 20 weeks duration each</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28.4% estimated lifetime risk of being diagnosed with a mood disorder by age 75</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TE RAU HINENGARO:</a:t>
            </a:r>
            <a:br>
              <a:rPr sz="3000"/>
            </a:br>
            <a:r>
              <a:rPr b="0" lang="en-NZ" sz="3000" spc="-1" strike="noStrike">
                <a:solidFill>
                  <a:srgbClr val="4e3b30"/>
                </a:solidFill>
                <a:latin typeface="Century Schoolbook"/>
              </a:rPr>
              <a:t>ANXIETY DISORDERS</a:t>
            </a:r>
            <a:endParaRPr b="0" lang="en-US" sz="3000" spc="-1" strike="noStrike">
              <a:solidFill>
                <a:srgbClr val="4e3b30"/>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Most common disorder in NZ in past 12 months (14.8%)</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Rates for females higher than males for anxiety disorders</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Specific phobias most common (12 month prevalence: 7.3%)</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Social Phobia also relatively common (12 month prevalence: 5.1%)</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Rates for Agoraphobia without panic and OCD low (12 month prevalence: 0.6%)</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Estimated lifetime prevalence rates for any anxiety disorder 24.9%</a:t>
            </a:r>
            <a:endParaRPr b="0" lang="en-US" sz="22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Estimated lifetime prevalence for any mental health disorder 39.5 % (aged 16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OGNITIVE BEHAVIOUR THERAPY (CBT)</a:t>
            </a:r>
            <a:endParaRPr b="0" lang="en-US" sz="3000" spc="-1" strike="noStrike">
              <a:solidFill>
                <a:srgbClr val="4e3b30"/>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Is a type of therapy consisting of both behavioural strategies (e.g. changing unhelpful behaviours, countering avoidance, increasing helpful behaviours etc) and cognitive interventions (e.g. changing unhelpful beliefs and attitudes, modifying the way a situation or individual is appraised, looking for evidence to support beliefs, problem-solving etc)</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ims for changes to emotional distress and unhelpful behaviour by directly evaluating and changing thoughts and behaviour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Is a theoretical framework that guides formulation and individualised treat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BT</a:t>
            </a:r>
            <a:endParaRPr b="0" lang="en-US" sz="3000" spc="-1" strike="noStrike">
              <a:solidFill>
                <a:srgbClr val="4e3b30"/>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Is an evidence based therapy </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s based on an ever evolving formulation &amp; conceptualisation of the client &amp; his/her problems in CBT term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quires a sound therapeutic alliance and active participation by client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s goal oriented and problem focussed, aims to be time limited, to relieve symptoms and return to usual levels of functioning ASAP</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eaches people to be their own therapis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lapse prevention is emphasised</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BT</a:t>
            </a:r>
            <a:endParaRPr b="0" lang="en-US" sz="3000" spc="-1" strike="noStrike">
              <a:solidFill>
                <a:srgbClr val="4e3b30"/>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Feelings are determined not by events but by thoughts about events</a:t>
            </a: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Information processing biases lead to, or maintain depressed / anxious affect &amp; behaviour</a:t>
            </a: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CBT does not contrast with biological approaches</a:t>
            </a: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oughts, moods, behaviours, biology, environmental &amp; developmental factors are all considered</a:t>
            </a: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BT does not come from a single unitary psychological theory but draws on many aspects of learning theory and cognitive psychology</a:t>
            </a: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66560" indent="-46656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HRISTINE PADESKY’S FIVE PART MODEL</a:t>
            </a:r>
            <a:endParaRPr b="0" lang="en-US" sz="3000" spc="-1" strike="noStrike">
              <a:solidFill>
                <a:srgbClr val="4e3b30"/>
              </a:solidFill>
              <a:latin typeface="Century Schoolbook"/>
            </a:endParaRPr>
          </a:p>
        </p:txBody>
      </p:sp>
      <p:graphicFrame>
        <p:nvGraphicFramePr>
          <p:cNvPr id="411" name="Object 2"/>
          <p:cNvGraphicFramePr/>
          <p:nvPr/>
        </p:nvGraphicFramePr>
        <p:xfrm>
          <a:off x="1643040" y="2222640"/>
          <a:ext cx="5313240" cy="3984480"/>
        </p:xfrm>
        <a:graphic>
          <a:graphicData uri="http://schemas.openxmlformats.org/presentationml/2006/ole">
            <p:oleObj progId="PowerPoint.Show.12" r:id="rId1" spid="">
              <p:embed/>
              <p:pic>
                <p:nvPicPr>
                  <p:cNvPr id="412" name="Object 2" descr=""/>
                  <p:cNvPicPr/>
                  <p:nvPr/>
                </p:nvPicPr>
                <p:blipFill>
                  <a:blip r:embed="rId2"/>
                  <a:stretch/>
                </p:blipFill>
                <p:spPr>
                  <a:xfrm>
                    <a:off x="1643040" y="2222640"/>
                    <a:ext cx="5313240" cy="39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EFFICACY RESEARCH</a:t>
            </a:r>
            <a:endParaRPr b="0" lang="en-US" sz="3000" spc="-1" strike="noStrike">
              <a:solidFill>
                <a:srgbClr val="4e3b30"/>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e efficacy of CBT for depression in particular and other disorders is well supported</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e competence of the therapist matter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ere is over 40 years of efficacy research, difficult to summarise the findings but some general conclusions can be made</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CBT is about as effective as medications, when each is adequately implemented</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Patients treated with CBT less likely to relapse</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CBT has an enduring effect that prevents relapse in much the same way continuing with medications does</a:t>
            </a:r>
            <a:endParaRPr b="0" lang="en-US" sz="2400" spc="-1" strike="noStrike">
              <a:solidFill>
                <a:srgbClr val="000000"/>
              </a:solidFill>
              <a:latin typeface="Century Schoolbook"/>
            </a:endParaRPr>
          </a:p>
          <a:p>
            <a:pPr marL="272880" indent="-272880">
              <a:lnSpc>
                <a:spcPct val="8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CBT may cost more initially but is considered to be more cost effective in the long term</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DEPRESSION</a:t>
            </a:r>
            <a:endParaRPr b="0" lang="en-US" sz="3000" spc="-1" strike="noStrike">
              <a:solidFill>
                <a:srgbClr val="4e3b30"/>
              </a:solidFill>
              <a:latin typeface="Century Schoolbook"/>
            </a:endParaRPr>
          </a:p>
        </p:txBody>
      </p:sp>
      <p:sp>
        <p:nvSpPr>
          <p:cNvPr id="41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arked depressed mood</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Loss of interest and enjoyment in usual activiti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duced self-esteem and confidenc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uilt, worthlessness, pessimism about the futur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hanges to sleep, appetite, libido</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Lack of energy, fatigue, reduced activity</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hanges to concentration &amp; attenti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ifficulty making decis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uicidal ideation and behaviour</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Negative view of self, other people, the world in general and the fut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MICHELLE AYRES</a:t>
            </a:r>
            <a:endParaRPr b="0" lang="en-US" sz="3000" spc="-1" strike="noStrike">
              <a:solidFill>
                <a:srgbClr val="4e3b30"/>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work at TBI Health and in private practic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y areas of expertise and interests include:</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vocational and vocational assessment and rehabilitation for clients with physical, mental health and traumatic brain injury</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cial rehabilitation</a:t>
            </a: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pporting the implementation of Cognitive Behaviour Therapy treatment plans in the real world setting, in conjunction with Clinical Psychologist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TREATING DEPRESSION USING CBT</a:t>
            </a:r>
            <a:endParaRPr b="0" lang="en-US" sz="3000" spc="-1" strike="noStrike">
              <a:solidFill>
                <a:srgbClr val="4e3b30"/>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Behavioural interventions such as activity monitoring and activity scheduling, increase ‘achievement’ and ‘pleasurable activities’, problem solving, behavioural experiments, stimulus control strategies for insomnia</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he goal is to return to usual activities as soon as possibl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T’s support this by helping the client structure meaningful and purposeful activities into their day, help prompt and initiate activity, break tasks into smaller components, practical support for behavioural experiments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TREATING DEPRESSION USING CBT</a:t>
            </a:r>
            <a:endParaRPr b="0" lang="en-US" sz="3000" spc="-1" strike="noStrike">
              <a:solidFill>
                <a:srgbClr val="4e3b30"/>
              </a:solidFill>
              <a:latin typeface="Century Schoolbook"/>
            </a:endParaRPr>
          </a:p>
        </p:txBody>
      </p:sp>
      <p:sp>
        <p:nvSpPr>
          <p:cNvPr id="42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ognitive strategies such as learning to control anxiety, identifying and evaluating distressing thoughts and beliefs, learning new skills and strategies, relapse preventi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T’s support this by prompting clients to complete homework assignments, assisting them to engage in activities to put the new skills into practice, reminding  them to use new skills and strategies in stressful situation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ANXIETY DISORDERS</a:t>
            </a:r>
            <a:endParaRPr b="0" lang="en-US" sz="3000" spc="-1" strike="noStrike">
              <a:solidFill>
                <a:srgbClr val="4e3b30"/>
              </a:solidFill>
              <a:latin typeface="Century Schoolbook"/>
            </a:endParaRPr>
          </a:p>
        </p:txBody>
      </p:sp>
      <p:sp>
        <p:nvSpPr>
          <p:cNvPr id="422" name=""/>
          <p:cNvSpPr txBox="1"/>
          <p:nvPr/>
        </p:nvSpPr>
        <p:spPr>
          <a:xfrm>
            <a:off x="499680" y="142884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Many different disorders but common feature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Specific and recurring fears + physiological symptom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Responses can be broken down into 4 domains: </a:t>
            </a:r>
            <a:endParaRPr b="0" lang="en-US" sz="24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entury Schoolbook"/>
              </a:rPr>
              <a:t>physiological (autonomic nervous system arousal) </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entury Schoolbook"/>
              </a:rPr>
              <a:t>cognitive (perception of danger, threat, loss, worry)</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entury Schoolbook"/>
              </a:rPr>
              <a:t>affective (nervousness, fear)</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entury Schoolbook"/>
              </a:rPr>
              <a:t>behavioural (fight, flight or freeze) </a:t>
            </a:r>
            <a:endParaRPr b="0" lang="en-US" sz="21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Anxiety may become a problem due to intensity, duration, impairment or avoidance </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Anxiety arises from misperception of situation</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Anxiety itself interpreted as threat in vicious cycle</a:t>
            </a:r>
            <a:endParaRPr b="0" lang="en-US" sz="2400" spc="-1" strike="noStrike">
              <a:solidFill>
                <a:srgbClr val="000000"/>
              </a:solidFill>
              <a:latin typeface="Century Schoolbook"/>
            </a:endParaRPr>
          </a:p>
          <a:p>
            <a:pPr lvl="1" marL="63972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ANXIETY DISORDERS</a:t>
            </a:r>
            <a:endParaRPr b="0" lang="en-US" sz="3000" spc="-1" strike="noStrike">
              <a:solidFill>
                <a:srgbClr val="4e3b30"/>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Schoolbook"/>
              </a:rPr>
              <a:t>Clients with anxiety disorders:</a:t>
            </a:r>
            <a:endParaRPr b="0" lang="en-US" sz="2200" spc="-1" strike="noStrike">
              <a:solidFill>
                <a:srgbClr val="000000"/>
              </a:solidFill>
              <a:latin typeface="Century Schoolbook"/>
            </a:endParaRPr>
          </a:p>
          <a:p>
            <a:pPr lvl="1" marL="914760" indent="-466560">
              <a:spcBef>
                <a:spcPts val="476"/>
              </a:spcBef>
              <a:buClr>
                <a:srgbClr val="f0a22e"/>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Overestimate the probability of a feared event</a:t>
            </a:r>
            <a:endParaRPr b="0" lang="en-US" sz="1900" spc="-1" strike="noStrike">
              <a:solidFill>
                <a:srgbClr val="000000"/>
              </a:solidFill>
              <a:latin typeface="Century Schoolbook"/>
            </a:endParaRPr>
          </a:p>
          <a:p>
            <a:pPr lvl="1" marL="914760" indent="-466560">
              <a:spcBef>
                <a:spcPts val="476"/>
              </a:spcBef>
              <a:buClr>
                <a:srgbClr val="f0a22e"/>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Overestimate the severity of a feared event</a:t>
            </a:r>
            <a:endParaRPr b="0" lang="en-US" sz="1900" spc="-1" strike="noStrike">
              <a:solidFill>
                <a:srgbClr val="000000"/>
              </a:solidFill>
              <a:latin typeface="Century Schoolbook"/>
            </a:endParaRPr>
          </a:p>
          <a:p>
            <a:pPr lvl="1" marL="914760" indent="-466560">
              <a:spcBef>
                <a:spcPts val="476"/>
              </a:spcBef>
              <a:buClr>
                <a:srgbClr val="f0a22e"/>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Underestimate their own coping resources</a:t>
            </a:r>
            <a:endParaRPr b="0" lang="en-US" sz="1900" spc="-1" strike="noStrike">
              <a:solidFill>
                <a:srgbClr val="000000"/>
              </a:solidFill>
              <a:latin typeface="Century Schoolbook"/>
            </a:endParaRPr>
          </a:p>
          <a:p>
            <a:pPr lvl="1" marL="914760" indent="-466560">
              <a:spcBef>
                <a:spcPts val="476"/>
              </a:spcBef>
              <a:buClr>
                <a:srgbClr val="f0a22e"/>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Underestimate likely rescue factors</a:t>
            </a:r>
            <a:endParaRPr b="0" lang="en-US" sz="1900" spc="-1" strike="noStrike">
              <a:solidFill>
                <a:srgbClr val="000000"/>
              </a:solidFill>
              <a:latin typeface="Century Schoolbook"/>
            </a:endParaRPr>
          </a:p>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entury Schoolbook"/>
              </a:rPr>
              <a:t>Maintaining factors:</a:t>
            </a:r>
            <a:endParaRPr b="0" lang="en-US" sz="2200" spc="-1" strike="noStrike">
              <a:solidFill>
                <a:srgbClr val="000000"/>
              </a:solidFill>
              <a:latin typeface="Century Schoolbook"/>
            </a:endParaRPr>
          </a:p>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Schoolbook"/>
              </a:rPr>
              <a:t>Escape and avoidance maintain preoccupation with threat and prevent unambiguous disconfirmation</a:t>
            </a:r>
            <a:endParaRPr b="0" lang="en-US" sz="2200" spc="-1" strike="noStrike">
              <a:solidFill>
                <a:srgbClr val="000000"/>
              </a:solidFill>
              <a:latin typeface="Century Schoolbook"/>
            </a:endParaRPr>
          </a:p>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Schoolbook"/>
              </a:rPr>
              <a:t>Cognitive biases such as catastrophising; dichotomous thinking; mental filtering and personalisation</a:t>
            </a:r>
            <a:endParaRPr b="0" lang="en-US" sz="2200" spc="-1" strike="noStrike">
              <a:solidFill>
                <a:srgbClr val="000000"/>
              </a:solidFill>
              <a:latin typeface="Century Schoolbook"/>
            </a:endParaRPr>
          </a:p>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Schoolbook"/>
              </a:rPr>
              <a:t>Safety-seeking behaviours: may exacerbate bodily symptoms; contaminate social situations; prevent disconfirmation of beliefs</a:t>
            </a:r>
            <a:endParaRPr b="0" lang="en-US" sz="2200" spc="-1" strike="noStrike">
              <a:solidFill>
                <a:srgbClr val="000000"/>
              </a:solidFill>
              <a:latin typeface="Century Schoolbook"/>
            </a:endParaRPr>
          </a:p>
          <a:p>
            <a:pPr marL="267120" indent="-26712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TREATING ANXIETY USING CBT</a:t>
            </a:r>
            <a:endParaRPr b="0" lang="en-US" sz="3000" spc="-1" strike="noStrike">
              <a:solidFill>
                <a:srgbClr val="4e3b30"/>
              </a:solidFill>
              <a:latin typeface="Century Schoolbook"/>
            </a:endParaRPr>
          </a:p>
        </p:txBody>
      </p:sp>
      <p:sp>
        <p:nvSpPr>
          <p:cNvPr id="42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oals are to tolerate and control physical symptoms of anxiety, address and test out worrying thoughts (catastrophic predic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return to usual activities as soon as possible (drop avoidance and other safety-seeking behaviou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ses education, strategies to address physical symptoms, to identify and evaluate anxious thoughts and beliefs, and to identify and modify behavioural responses to anxiet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SAFETY-SEEKING BEHAVIOURS </a:t>
            </a:r>
            <a:br>
              <a:rPr sz="3000"/>
            </a:br>
            <a:r>
              <a:rPr b="0" lang="en-NZ" sz="3000" spc="-1" strike="noStrike">
                <a:solidFill>
                  <a:srgbClr val="4e3b30"/>
                </a:solidFill>
                <a:latin typeface="Century Schoolbook"/>
              </a:rPr>
              <a:t>&amp; AVOIDANCE</a:t>
            </a:r>
            <a:endParaRPr b="0" lang="en-US" sz="3000" spc="-1" strike="noStrike">
              <a:solidFill>
                <a:srgbClr val="4e3b30"/>
              </a:solidFill>
              <a:latin typeface="Century Schoolbook"/>
            </a:endParaRPr>
          </a:p>
        </p:txBody>
      </p:sp>
      <p:sp>
        <p:nvSpPr>
          <p:cNvPr id="42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re strategies that are used minimise anxiety and to cope in specific situation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ry from client to client and disorder to disorder</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n be either behaviours or thoughts / belief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n be anticipatory and or occur as a ‘post-mortem’</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n be automatic, are viewed as helpful and can be resistant to change BUT....</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intain anxiety – don’t get to learn that the feared event doesn’t occur or that you can cope</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duce the likelihood of change, unless identified and addressed</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BEHAVIOURAL EXPERIMENTS</a:t>
            </a:r>
            <a:endParaRPr b="0" lang="en-US" sz="3000" spc="-1" strike="noStrike">
              <a:solidFill>
                <a:srgbClr val="4e3b30"/>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Key component of treating anxiety</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Examples include dropping safety-seeking behaviours or avoidanc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re developed as part of an individual conceptualisati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est out predictions of danger, coping etc</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sually involve combination of exposure and ‘disconfirmatory manoeuvres’, aim to reduce belief that the danger will occur to zer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OCCUPATIONAL THERAPISTS ROLE</a:t>
            </a:r>
            <a:endParaRPr b="0" lang="en-US" sz="3000" spc="-1" strike="noStrike">
              <a:solidFill>
                <a:srgbClr val="4e3b30"/>
              </a:solidFill>
              <a:latin typeface="Century Schoolbook"/>
            </a:endParaRPr>
          </a:p>
        </p:txBody>
      </p:sp>
      <p:sp>
        <p:nvSpPr>
          <p:cNvPr id="43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support the client to initiate and complete behavioural experiments in the ‘real world’</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prompt them to drop safety-seeking behaviours, to use helpful skills and strategi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support the client to stop avoiding feared situa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help with a graduated return to regular activiti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o go into the workplace &amp; identify possible barriers and problem-solve solu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Facilitate communication between employer and cli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ASE MANAGERS CAN ASSIST BY</a:t>
            </a:r>
            <a:endParaRPr b="0" lang="en-US" sz="3000" spc="-1" strike="noStrike">
              <a:solidFill>
                <a:srgbClr val="4e3b30"/>
              </a:solidFill>
              <a:latin typeface="Century Schoolbook"/>
            </a:endParaRPr>
          </a:p>
        </p:txBody>
      </p:sp>
      <p:sp>
        <p:nvSpPr>
          <p:cNvPr id="434"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ferring to clinical psychologist early if anxiety and depression are factors affecting a return to work</a:t>
            </a:r>
            <a:endParaRPr b="0" lang="en-US" sz="2400" spc="-1" strike="noStrike">
              <a:solidFill>
                <a:srgbClr val="000000"/>
              </a:solidFill>
              <a:latin typeface="Century Schoolbook"/>
            </a:endParaRPr>
          </a:p>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ferring to an OT for a workplace assessment early to cement the expectation clients will return to their usual activities as soon as possible</a:t>
            </a:r>
            <a:endParaRPr b="0" lang="en-US" sz="2400" spc="-1" strike="noStrike">
              <a:solidFill>
                <a:srgbClr val="000000"/>
              </a:solidFill>
              <a:latin typeface="Century Schoolbook"/>
            </a:endParaRPr>
          </a:p>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Encouraging clients to attend sessions</a:t>
            </a:r>
            <a:endParaRPr b="0" lang="en-US" sz="2400" spc="-1" strike="noStrike">
              <a:solidFill>
                <a:srgbClr val="000000"/>
              </a:solidFill>
              <a:latin typeface="Century Schoolbook"/>
            </a:endParaRPr>
          </a:p>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onsidering combining Clinical Psychology referrals with referrals to an Occupational Therapist</a:t>
            </a:r>
            <a:endParaRPr b="0" lang="en-US" sz="2400" spc="-1" strike="noStrike">
              <a:solidFill>
                <a:srgbClr val="000000"/>
              </a:solidFill>
              <a:latin typeface="Century Schoolbook"/>
            </a:endParaRPr>
          </a:p>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Facilitating professionals meetings to review progress, coordinate treatment planning etc</a:t>
            </a:r>
            <a:endParaRPr b="0" lang="en-US" sz="2400" spc="-1" strike="noStrike">
              <a:solidFill>
                <a:srgbClr val="000000"/>
              </a:solidFill>
              <a:latin typeface="Century Schoolbook"/>
            </a:endParaRPr>
          </a:p>
          <a:p>
            <a:pPr marL="270000" indent="-27000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ASE EXAMPLE</a:t>
            </a:r>
            <a:endParaRPr b="0" lang="en-US" sz="3000" spc="-1" strike="noStrike">
              <a:solidFill>
                <a:srgbClr val="4e3b30"/>
              </a:solidFill>
              <a:latin typeface="Century Schoolbook"/>
            </a:endParaRPr>
          </a:p>
        </p:txBody>
      </p:sp>
      <p:sp>
        <p:nvSpPr>
          <p:cNvPr id="43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JD is a 45 year old Pakeha male architec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arried with 2 children, aged 4 and 6 yea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ife of 10 years currently pregnant and fulltime parenting</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artner in a firm; 2 other partners and 4 employe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cently completed their ‘dream home’ which went over budge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as working 70+ hours a week, high levels of stress and responsibility</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lationship issu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OUTLINE</a:t>
            </a:r>
            <a:endParaRPr b="0" lang="en-US" sz="3000" spc="-1" strike="noStrike">
              <a:solidFill>
                <a:srgbClr val="4e3b30"/>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linical Psychology and Occupational Therapy professions and what we do</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Vocational rehabilitation process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Mental health diagnoses; implications for employment and New Zealand prevalence rat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ognitive Behaviour Therapy for depression and anxiety</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How Clinical Psychologists and Occupational Therapists work together in vocational rehabilitation pla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ase exampl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DIAGNOSED WITH PANIC DISORDER WITH AGORAPHOBIA</a:t>
            </a:r>
            <a:endParaRPr b="0" lang="en-US" sz="3000" spc="-1" strike="noStrike">
              <a:solidFill>
                <a:srgbClr val="4e3b30"/>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1 previous episode of mixed depression &amp; anxiety when completing his final examina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Low mood and anxiety symptoms gradually increased over last 6 month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Had 1</a:t>
            </a:r>
            <a:r>
              <a:rPr b="0" lang="en-NZ" sz="2400" spc="-1" strike="noStrike" baseline="30000">
                <a:solidFill>
                  <a:srgbClr val="000000"/>
                </a:solidFill>
                <a:latin typeface="Century Schoolbook"/>
              </a:rPr>
              <a:t>st</a:t>
            </a:r>
            <a:r>
              <a:rPr b="0" lang="en-NZ" sz="2400" spc="-1" strike="noStrike">
                <a:solidFill>
                  <a:srgbClr val="000000"/>
                </a:solidFill>
                <a:latin typeface="Century Schoolbook"/>
              </a:rPr>
              <a:t> panic attack with his car broke down on the motorway</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The panic attacks began occurring when he tried to drive again, left the house alone, in other situations where escape would be difficul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epressive symptoms intensified over tim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STATUS AT TIME OF REFERRAL</a:t>
            </a:r>
            <a:endParaRPr b="0" lang="en-US" sz="3000" spc="-1" strike="noStrike">
              <a:solidFill>
                <a:srgbClr val="4e3b30"/>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Had been off work for 3 months, medication helped improve his mood</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nsuccessful attempt to return to work after 2.5 month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anic attacks continued and when referred he could not leave the house alone and could not go into his office</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iminished daily activities, increased time in bed, avoidance of social situations and usual hobbies and interests, loss of confidence, reduced contribution to household tasks including parenting, zero contact with work</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ASSESSMENTS COMPLETED</a:t>
            </a:r>
            <a:endParaRPr b="0" lang="en-US" sz="3000" spc="-1" strike="noStrike">
              <a:solidFill>
                <a:srgbClr val="4e3b30"/>
              </a:solidFill>
              <a:latin typeface="Century Schoolbook"/>
            </a:endParaRPr>
          </a:p>
        </p:txBody>
      </p:sp>
      <p:sp>
        <p:nvSpPr>
          <p:cNvPr id="44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T – home visit to assess engagement in:</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Self care</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Leisure/ recreation</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Parenting</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Work and associated activities</a:t>
            </a: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linical Psychologist – Psychological Assessment including:</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Diagnosi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Formulation and conceptualisation</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Treatment recommendation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INTEGRATED TREATMENT</a:t>
            </a:r>
            <a:endParaRPr b="0" lang="en-US" sz="3000" spc="-1" strike="noStrike">
              <a:solidFill>
                <a:srgbClr val="4e3b30"/>
              </a:solidFill>
              <a:latin typeface="Century Schoolbook"/>
            </a:endParaRPr>
          </a:p>
        </p:txBody>
      </p:sp>
      <p:sp>
        <p:nvSpPr>
          <p:cNvPr id="444"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linical Psychologist</a:t>
            </a:r>
            <a:endParaRPr b="0" lang="en-US" sz="24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Education about anxiety &amp; depression</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Presented formulation</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Behaviour activation with OT assistance</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Learned to manage anxiety symptoms</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dentified and evaluated anxious thoughts / beliefs</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Behavioural experiments with OT assistance</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Dropped avoidance and safety-seeking behaviours</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Graduated exposure to situations that triggered anxiety, with OT assistance</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Began graduated return to work</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Problem solved and addressed barriers to return to work</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Relapse prevention</a:t>
            </a:r>
            <a:endParaRPr b="0" lang="en-US" sz="2100" spc="-1" strike="noStrike">
              <a:solidFill>
                <a:srgbClr val="000000"/>
              </a:solidFill>
              <a:latin typeface="Century Schoolbook"/>
            </a:endParaRPr>
          </a:p>
          <a:p>
            <a:pPr lvl="1" marL="633240" indent="-27000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INTEGRATED TREATMENT</a:t>
            </a:r>
            <a:endParaRPr b="0" lang="en-US" sz="3000" spc="-1" strike="noStrike">
              <a:solidFill>
                <a:srgbClr val="4e3b30"/>
              </a:solidFill>
              <a:latin typeface="Century Schoolbook"/>
            </a:endParaRPr>
          </a:p>
        </p:txBody>
      </p:sp>
      <p:sp>
        <p:nvSpPr>
          <p:cNvPr id="44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Occupational therapist</a:t>
            </a:r>
            <a:endParaRPr b="0" lang="en-US" sz="24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Assisted with behaviour activation and activity scheduling in the early stages</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Assisted with increasing daily activities as his anxiety symptoms improved</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Supported behaviour experiments in the real world</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Provided frequent mental state checks and communicated with treating professionals</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Refined treatment plan in collaboration with clinical psychologist</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Completed workplace assessment and developed a graduated return to work plan</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Monitored his progress on his return to work for 12 weeks</a:t>
            </a:r>
            <a:endParaRPr b="0" lang="en-US" sz="2100" spc="-1" strike="noStrike">
              <a:solidFill>
                <a:srgbClr val="000000"/>
              </a:solidFill>
              <a:latin typeface="Century Schoolbook"/>
            </a:endParaRPr>
          </a:p>
          <a:p>
            <a:pPr lvl="1" marL="639720" indent="-272880">
              <a:lnSpc>
                <a:spcPct val="90000"/>
              </a:lnSpc>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OUTCOME</a:t>
            </a:r>
            <a:endParaRPr b="0" lang="en-US" sz="3000" spc="-1" strike="noStrike">
              <a:solidFill>
                <a:srgbClr val="4e3b30"/>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urrently JD :</a:t>
            </a:r>
            <a:endParaRPr b="0" lang="en-US" sz="24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s free from panic attacks (full &amp; limited symptom)</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Manages stress and mild anxiety appropriately</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Does not meet diagnostic criteria for depression</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Successfully returned to work over a 3 month period</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s working full time but has established a work life balance, so completes no more than 50 hours per week</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Has returned to usual leisure activities</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s actively parenting</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entury Schoolbook"/>
              </a:rPr>
              <a:t>Is addressing relationship issues with external counselling</a:t>
            </a: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LINICAL PSYCHOLOGISTS</a:t>
            </a:r>
            <a:endParaRPr b="0" lang="en-US" sz="3000" spc="-1" strike="noStrike">
              <a:solidFill>
                <a:srgbClr val="4e3b30"/>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Have trained for around 6-7 year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gistered health professionals under HPCA legislation</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Scopes of practice – General, Educational, Clinical</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dhere to a code of conduc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se a scientist-practitioner approach</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re trained in assessment, diagnosis and treatment of mental health disord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CLINICAL PSYCHOLOGISTS</a:t>
            </a:r>
            <a:endParaRPr b="0" lang="en-US" sz="3000" spc="-1" strike="noStrike">
              <a:solidFill>
                <a:srgbClr val="4e3b30"/>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ssess, diagnose and treat mental health disorders using evidence-based therapi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ssess cognitive functioning via neuropsychological assessment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an assist clients to learn to manage stress and worries about returning to employmen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ork with Occupational Therapists on pre-vocational and graduated return to work programme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ork with employers to facilitate a return to employ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OCCUPATIONAL THERAPISTS (OT’S)</a:t>
            </a:r>
            <a:endParaRPr b="0" lang="en-US" sz="3000" spc="-1" strike="noStrike">
              <a:solidFill>
                <a:srgbClr val="4e3b30"/>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Complete a 4 year degree course condensed into 3 year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Registered health professionals under HPCA legislation</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actice in hospitals, community health services, schools, workplaces, rest-homes, primary health organisations and in private practice </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Adhere to a code of conduct</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se occupational, client-centred- enablement approaches</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Use a systems approach  which includes assessment, programme planning, intervention, discharge, follow up and programme evaluation</a:t>
            </a: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WHAT OT’S CAN DO</a:t>
            </a:r>
            <a:endParaRPr b="0" lang="en-US" sz="3000" spc="-1" strike="noStrike">
              <a:solidFill>
                <a:srgbClr val="4e3b30"/>
              </a:solidFill>
              <a:latin typeface="Century Schoolbook"/>
            </a:endParaRPr>
          </a:p>
        </p:txBody>
      </p:sp>
      <p:sp>
        <p:nvSpPr>
          <p:cNvPr id="373" name=""/>
          <p:cNvSpPr txBox="1"/>
          <p:nvPr/>
        </p:nvSpPr>
        <p:spPr>
          <a:xfrm>
            <a:off x="428400" y="1571400"/>
            <a:ext cx="7467480" cy="487332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ccupational Therapy is a health profession concerned with promoting health and wellbeing through occupation.  </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ccupation refers to everything that people do during the course of their life, including work.</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4e3b30"/>
                </a:solidFill>
                <a:latin typeface="Century Schoolbook"/>
              </a:rPr>
              <a:t>OT &amp; VOCATIONAL REHABILITATION SERVICES</a:t>
            </a:r>
            <a:endParaRPr b="0" lang="en-US" sz="3000" spc="-1" strike="noStrike">
              <a:solidFill>
                <a:srgbClr val="4e3b30"/>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Development and Implementation of Rehabilitation Pla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orkplace Assessmen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Graduated Return to Work Pla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eekly Monitoring</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Functional Capacity Evaluations</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Provision of Equipment</a:t>
            </a: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entury Schoolbook"/>
              </a:rPr>
              <a:t>We also do workstation screening, ergonomics assessments, manual handling training, and back and neck care</a:t>
            </a:r>
            <a:endParaRPr b="0" lang="en-US" sz="2400" spc="-1" strike="noStrike">
              <a:solidFill>
                <a:srgbClr val="000000"/>
              </a:solidFill>
              <a:latin typeface="Century Schoolbook"/>
            </a:endParaRPr>
          </a:p>
          <a:p>
            <a:pPr lvl="3" marL="1187280" indent="-182520">
              <a:spcBef>
                <a:spcPts val="451"/>
              </a:spcBef>
              <a:buClr>
                <a:srgbClr val="f6cead"/>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02:14:52Z</dcterms:created>
  <dc:creator>Tracy Barnfeild</dc:creator>
  <dc:description/>
  <dc:language>en-US</dc:language>
  <cp:lastModifiedBy>Russell</cp:lastModifiedBy>
  <dcterms:modified xsi:type="dcterms:W3CDTF">2009-09-02T21:52:42Z</dcterms:modified>
  <cp:revision>200</cp:revision>
  <dc:subject/>
  <dc:title>Michelle Ayres Occupational Therapist Tracey Barnfield Registered Clinical Psychologist</dc:title>
</cp:coreProperties>
</file>