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AAB-9254-42C4-BE0B-C538AEB6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9527-A617-4B4D-92C3-440413EE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6711-A0AC-447E-8AEB-C8B50E71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6A4-3729-4CFA-9A11-9A45DD13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EC1-36D7-4417-810B-4415D5F5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1AF-C898-4E50-9208-76831392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F3B-8949-47B0-9EF9-0F21C5F5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634-53B3-47B0-AAE8-A912EDFD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3ADE-78BC-469B-905B-4A9D6BE5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E102-A2A5-4EE1-83F1-8E51BCCD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9C7-1EA8-4885-AF2D-72AE3073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A08-7577-411A-AE93-D5894E72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CCC4-034D-43F8-8AEB-D180B0314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PROPOSED CHANGES TO</a:t>
            </a:r>
            <a:br>
              <a:rPr sz="3600"/>
            </a:b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LIFE INSURANCE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3640" y="5300640"/>
            <a:ext cx="2819160" cy="1155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35280" y="2349360"/>
            <a:ext cx="5545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A Presentation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LADU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24 Ma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19200"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ichael Burrow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9200"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9200"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urrowes and Company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arristers and Solic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9200"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lling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FINANCIAL ADVISERS, ANALYSTS AND RA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36 – 3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gulatory framework for financial advi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ife insurance analy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inancial strength r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ngoing public educational r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01840" y="5300640"/>
            <a:ext cx="2819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INSURANCE CONTRACTS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40 – R4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new Insurance Contracts Act based on the Bill provided in appendix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ransfers by life insurers of life poli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rocess for life insurers to have policy terms amended by the High Court for administrative rea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ew rules for non-disclo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01840" y="5300640"/>
            <a:ext cx="2819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NEW NON-DISCLOSURE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lause 14 – avoidance because of failure to disclose may only be exercised within 10 working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lause 15 – 3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6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Knowledge of undisclosed fact and its materi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46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pecific simple question answered incor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46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insurance contra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01840" y="5300640"/>
            <a:ext cx="2819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REINSU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44 – R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quirements of the Companies Act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inancial Reporting Act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ew Zealand-established reinsur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ctuarial solvency standard for life insurers should be reviewed for reinsurance arrang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isclosure of name of reinsurer and any reinsurance arran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01840" y="5300640"/>
            <a:ext cx="2819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CROSS BORDER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48 – R5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verseas life insurers required to incorporate in New Zea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inancial Reporting Act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quired to appoint a policyholder ag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01840" y="5300640"/>
            <a:ext cx="2819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CROSS BORDER ISSU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surer to abide by decisions of High Court of New Zealand and policy will be governed by New Zealand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ternet offers of life insurance from offshore ent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01840" y="5300640"/>
            <a:ext cx="2819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PRACTICAL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008 Commenc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creased disclosure – direct marketing har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pportunities for intermedia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mpliance co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reater regulation/super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arder to avoid policies for non-disclos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01840" y="5300640"/>
            <a:ext cx="2819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E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aw Commission discussion paper in December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ubmissions closed March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raft report in August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urther submissions closed September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inal report November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overnment’s response March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1840" y="5300640"/>
            <a:ext cx="281808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9311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peal of Life Insurance Act 1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ife insurers to incorporate as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01840" y="5300640"/>
            <a:ext cx="281808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DISCL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3 – R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ecurities Act extended to risk only poli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vestment statement —&gt; product disclosure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xemptions for renewals and vari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rospectus requ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quest disclosure reg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eriodic disclosure reg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01840" y="5300640"/>
            <a:ext cx="281808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FINANCIAL REPOR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16 – R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inancial Reporting Act 1993 requirements extended to cover all issuers of risk only life insurance poli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inancial standard applicable to life insurers should be reviewed.  In particular, level of disclosure for reinsurance arrangements should be incre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3640" y="5300640"/>
            <a:ext cx="28191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FINANCIAL REPORTING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pproval of actuarial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ew Zealand Society of Actuaries Guidance Note 5 should be review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dependent actuarial audit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03640" y="5300640"/>
            <a:ext cx="28191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FINANCIAL REPORTING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rinciples upon which the valuation and distribution of profits among shareholders and policyholders to be disclo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ngoing reporting requirements to the prudential supervi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udit actuary should have a “whistle-blowing” r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132000" y="5300640"/>
            <a:ext cx="2819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PRUDENTIAL SUPER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27 – R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rudential supervisor” for every life insur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overnment monitor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ither the Securities Commission or the Reserve Bank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rivate sector entity (a policyholder ag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01840" y="5300640"/>
            <a:ext cx="2819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PRUDENTIAL SUPERVISION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owers of prudential supervi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reference for private sector policyholder a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01840" y="5300640"/>
            <a:ext cx="2819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02:33:44Z</dcterms:created>
  <dc:creator>Miriam</dc:creator>
  <dc:description/>
  <dc:language>en-US</dc:language>
  <cp:lastModifiedBy>Heather</cp:lastModifiedBy>
  <dcterms:modified xsi:type="dcterms:W3CDTF">2005-05-23T04:06:44Z</dcterms:modified>
  <cp:revision>20</cp:revision>
  <dc:subject/>
  <dc:title>The Property (Relationships) A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35021495</vt:r8>
  </property>
  <property fmtid="{D5CDD505-2E9C-101B-9397-08002B2CF9AE}" pid="3" name="_AuthorEmail">
    <vt:lpwstr>mrburr@burrowes.co.nz</vt:lpwstr>
  </property>
  <property fmtid="{D5CDD505-2E9C-101B-9397-08002B2CF9AE}" pid="4" name="_AuthorEmailDisplayName">
    <vt:lpwstr>Burrowes and Company</vt:lpwstr>
  </property>
  <property fmtid="{D5CDD505-2E9C-101B-9397-08002B2CF9AE}" pid="5" name="_EmailSubject">
    <vt:lpwstr>LADUCA Presentation</vt:lpwstr>
  </property>
</Properties>
</file>